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4ADD7-8995-433D-B5DC-121854D92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B115-7D38-4F5D-9A69-76818655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9E8B-3293-4F6A-A0E0-6A937B5E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963DD-B4E7-41DE-B954-B06DCB63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7664D-809D-4BD3-8EBC-0BCE57543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B9E0C-283E-4C62-B1C3-0A96A6C0F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5231D-896D-40CA-BE28-19F180A9B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6415E-87AB-4603-A720-369E2205C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E4C0C-4401-4357-B084-3B14CD0F4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2EAB2-C8D5-4AAD-ACB3-28A65D6F2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28C63-13EB-47EF-9109-341DBB2C2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1918-0488-4D2B-B1D8-0A14B93C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FCEFF-1584-4C7B-A222-5F6E1A4D6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E3DCA-D955-4E08-99CA-DB1CC5B57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F9C08-C767-4BA0-AFA8-92B03D0D5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6A248-9923-472C-90EB-D4256BC3F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989BC-CE3F-4F3C-B29F-F86D0A9D2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2B4D-B6EE-4200-B65E-037F72936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763C2-1096-4A40-870F-08DB5F5E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761AA-89DF-4ACE-84A5-E7F4F178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88229-2489-4568-8388-FAC700C8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0476-15DB-4807-8A99-43822F49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18C0-1040-4C8C-91D5-6E8FEC85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B088-CBC5-451D-839A-586A6CEEB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1028"/>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C153-0FC0-4102-8C3E-3E13555BE2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1035000" y="1552680"/>
            <a:ext cx="10179000" cy="5305320"/>
            <a:chOff x="-1035000" y="1552680"/>
            <a:chExt cx="10179000" cy="530532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D572-8EC9-4947-861B-90FF7C789C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athworks.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lab Course</a:t>
            </a:r>
            <a:endParaRPr b="0" lang="en-US" sz="4400" spc="-1" strike="noStrike">
              <a:solidFill>
                <a:srgbClr val="ffcc66"/>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annis Paraskevas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D, CEng, Cmath, FHE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paraskevas@theiet.or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ting help:</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help sum” to get help on the function sum</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lookfor cosine” lists functions with cosine in the descriptio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hworks web sit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33"/>
                </a:solidFill>
                <a:uFillTx/>
                <a:latin typeface="Times New Roman"/>
                <a:hlinkClick r:id="rId1"/>
              </a:rPr>
              <a:t>http://www.mathworks.com/</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 Operations</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 Simple Array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 Address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 Construc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 Mathematic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s of Ones or Zer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efinition - Simple Arrays</a:t>
            </a:r>
            <a:endParaRPr b="0" lang="en-US" sz="40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rations involving scalars are the basis of mathematics. At the same time, when we wish to perform the same operation on more than one number at a time, repeated scalar operations are time-consuming and cumbersome.To solve this problem, MATLAB defines operations on data array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 the values of the sine function over one-half of its period, namely y=sin(x), x belongs [0,pi].</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 = 0, .1pi , .2pi , .3pi , .4pi , .5pi , .6pi , .7pi,     .8pi, .9pi, .pi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 = 0, .31, .59, .81, .95, 1.0, .95, .81,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9, .31, 0</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21"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304920" y="533520"/>
            <a:ext cx="815328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MATLAB: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0 .1*pi .2*pi .3*pi .4*pi .5*pi .6*pi .7*pi .8*pi .9*pi pi] (Ent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3142    0.6283    0.9425    1.2566    1.5708    1.8850    2.1991    2.5133    2.8274    3.1416</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y=sin(x) (Ent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3090    0.5878    0.8090    0.9511    1.0000    0.9511    0.8090    0.5878    0.3090    0.0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rray Addressing</a:t>
            </a:r>
            <a:endParaRPr b="0" lang="en-US" sz="32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MATLAB, individual array elements are accessed using subscripts, e.g.,x(1) is the first element in x, x(2) is the first element in x etc. For exampl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3)  % The third element of x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 0.6283</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y(5)  % The fifth element of 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 0.95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rray Addressing</a:t>
            </a:r>
            <a:endParaRPr b="0" lang="en-US" sz="32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ccess a block of elements at one time, MATLAB provides </a:t>
            </a:r>
            <a:r>
              <a:rPr b="0" i="1" lang="en-US" sz="2400" spc="-1" strike="noStrike" u="sng">
                <a:solidFill>
                  <a:srgbClr val="ffffff"/>
                </a:solidFill>
                <a:uFillTx/>
                <a:latin typeface="Times New Roman"/>
              </a:rPr>
              <a:t>colon notation</a:t>
            </a:r>
            <a:r>
              <a:rPr b="0" lang="en-US" sz="2400" spc="-1" strike="noStrike">
                <a:solidFill>
                  <a:srgbClr val="ffffff"/>
                </a:solidFill>
                <a:latin typeface="Times New Roman"/>
              </a:rPr>
              <a:t>. For example:</a:t>
            </a:r>
            <a:endParaRPr b="0" lang="en-US" sz="2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x(1:5)  % start with one and count up to 5</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    0.3142    0.6283    0.9425    1.2566</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x(7:end)  % starts with the seventh element and continues to the last element</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1.8850    2.1991    2.5133    2.8274    3.1416</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y(3:-1:1)  % start with 3, count down by 1, and stop at 1</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5878    0.3090         0</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x(2:2:7)  % start with 2,count up by 2, and stop when you get to 7</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3142    0.9425    1.5708</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y([8 2 9 1])  % extracts the elements of the array y in the order we wish</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8090    0.3090    0.5878         0</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 Constructi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asic array construction features of MATLAB are summarized as follow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Basic Array Constructio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2  2*pi  sqrt(2)  2-3j]   </a:t>
            </a:r>
            <a:r>
              <a:rPr b="0" i="1" lang="en-US" sz="2000" spc="-1" strike="noStrike">
                <a:solidFill>
                  <a:srgbClr val="ffffff"/>
                </a:solidFill>
                <a:latin typeface="Times New Roman"/>
              </a:rPr>
              <a:t>create row vector x containing elements specifie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first:last  </a:t>
            </a:r>
            <a:r>
              <a:rPr b="0" i="1" lang="en-US" sz="2000" spc="-1" strike="noStrike">
                <a:solidFill>
                  <a:srgbClr val="ffffff"/>
                </a:solidFill>
                <a:latin typeface="Times New Roman"/>
              </a:rPr>
              <a:t>create row vector x starting with first, counting by one, ending at or before las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first:increment:last  </a:t>
            </a:r>
            <a:r>
              <a:rPr b="0" i="1" lang="en-US" sz="2000" spc="-1" strike="noStrike">
                <a:solidFill>
                  <a:srgbClr val="ffffff"/>
                </a:solidFill>
                <a:latin typeface="Times New Roman"/>
              </a:rPr>
              <a:t>create row vector x starting with first, counting by increment, ending at or before las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linspace(first,last,n) </a:t>
            </a:r>
            <a:r>
              <a:rPr b="0" i="1" lang="en-US" sz="2000" spc="-1" strike="noStrike">
                <a:solidFill>
                  <a:srgbClr val="ffffff"/>
                </a:solidFill>
                <a:latin typeface="Times New Roman"/>
              </a:rPr>
              <a:t>create row vector x starting with first, ending at last, having n element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logspace(first,last,n) </a:t>
            </a:r>
            <a:r>
              <a:rPr b="0" i="1" lang="en-US" sz="2000" spc="-1" strike="noStrike">
                <a:solidFill>
                  <a:srgbClr val="ffffff"/>
                </a:solidFill>
                <a:latin typeface="Times New Roman"/>
              </a:rPr>
              <a:t>create logarithmically spaced row vector x starting with 10^(first), ending at 10^(last), having n element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s</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0:0.1:1)*pi  % create row vector x starting with first, counting by increment, ending at or before l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0    0.3142    0.6283    0.9425    1.2566    1.5708    1.8850    2.1991    2.5133    2.8274    3.1416</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linspace(0,pi,11)  % create row vector x starting with first, ending at last, having n element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0    0.3142    0.6283    0.9425    1.2566    1.5708    1.8850    2.1991    2.5133    2.8274    3.1416</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logspace(0,2,11)  % create row vector x starting with first, ending at last, having n element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00    1.5849    2.5119    3.9811    6.3096   10.0000   15.8489   25.1189   39.8107   63.0957  100.0000</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 Mathematics</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asic array operations are summarized as follows:</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Element-by-Element Array Mathematics</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lustrative data: a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b = [b</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c = &lt;a scalar&g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alar addition: a + c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c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alar multiplication: a * c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c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addition: a + b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multiplication: a .* b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division: a ./ b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powers: a.^c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c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c </a:t>
            </a:r>
            <a:r>
              <a:rPr b="0" lang="en-US" sz="2000" spc="-1" strike="noStrike" baseline="-25000">
                <a:solidFill>
                  <a:srgbClr val="ffffff"/>
                </a:solidFill>
                <a:latin typeface="Times New Roman"/>
              </a:rPr>
              <a:t>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 = [c^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c^ a</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c^ 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b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urse Outline</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websites / getting help</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 informatio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ray Operation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rix Operation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onal&amp;Logical Operation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Flow</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D Graphic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Graphic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olboxe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ed Examples</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s of Ones or Zeros</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cause of their general utility, MATLAB provides functions for creating arrays containing either all ones or all zero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xample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ones(3)  % creates a 3x3 matrix consisted of 1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1     1</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1     1</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1     1</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zeros(2,5)  % creates a 2x5 matrix consisted of 0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     0     0     0</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     0     0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rix Operations</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iginally, MATLAB was written to simplify the matrix and linear algebra computations that appear in many applications. One of the most common linear algebra problems is the solution of a linear set of equa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set of equations,</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25000">
                <a:solidFill>
                  <a:srgbClr val="ffffff"/>
                </a:solidFill>
                <a:latin typeface="Times New Roman"/>
              </a:rPr>
              <a:t>1 </a:t>
            </a:r>
            <a:r>
              <a:rPr b="0" lang="en-US" sz="2800" spc="-1" strike="noStrike">
                <a:solidFill>
                  <a:srgbClr val="ffffff"/>
                </a:solidFill>
                <a:latin typeface="Times New Roman"/>
              </a:rPr>
              <a:t>+ 2x</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3x</a:t>
            </a:r>
            <a:r>
              <a:rPr b="0" lang="en-US" sz="2800" spc="-1" strike="noStrike" baseline="-25000">
                <a:solidFill>
                  <a:srgbClr val="ffffff"/>
                </a:solidFill>
                <a:latin typeface="Times New Roman"/>
              </a:rPr>
              <a:t>3 </a:t>
            </a:r>
            <a:r>
              <a:rPr b="0" lang="en-US" sz="2800" spc="-1" strike="noStrike">
                <a:solidFill>
                  <a:srgbClr val="ffffff"/>
                </a:solidFill>
                <a:latin typeface="Times New Roman"/>
              </a:rPr>
              <a:t>= 366</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x</a:t>
            </a:r>
            <a:r>
              <a:rPr b="0" lang="en-US" sz="2800" spc="-1" strike="noStrike" baseline="-25000">
                <a:solidFill>
                  <a:srgbClr val="ffffff"/>
                </a:solidFill>
                <a:latin typeface="Times New Roman"/>
              </a:rPr>
              <a:t>1 </a:t>
            </a:r>
            <a:r>
              <a:rPr b="0" lang="en-US" sz="2800" spc="-1" strike="noStrike">
                <a:solidFill>
                  <a:srgbClr val="ffffff"/>
                </a:solidFill>
                <a:latin typeface="Times New Roman"/>
              </a:rPr>
              <a:t>+ 5x</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6x</a:t>
            </a:r>
            <a:r>
              <a:rPr b="0" lang="en-US" sz="2800" spc="-1" strike="noStrike" baseline="-25000">
                <a:solidFill>
                  <a:srgbClr val="ffffff"/>
                </a:solidFill>
                <a:latin typeface="Times New Roman"/>
              </a:rPr>
              <a:t>3 </a:t>
            </a:r>
            <a:r>
              <a:rPr b="0" lang="en-US" sz="2800" spc="-1" strike="noStrike">
                <a:solidFill>
                  <a:srgbClr val="ffffff"/>
                </a:solidFill>
                <a:latin typeface="Times New Roman"/>
              </a:rPr>
              <a:t>= 804</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x</a:t>
            </a:r>
            <a:r>
              <a:rPr b="0" lang="en-US" sz="2800" spc="-1" strike="noStrike" baseline="-25000">
                <a:solidFill>
                  <a:srgbClr val="ffffff"/>
                </a:solidFill>
                <a:latin typeface="Times New Roman"/>
              </a:rPr>
              <a:t>1 </a:t>
            </a:r>
            <a:r>
              <a:rPr b="0" lang="en-US" sz="2800" spc="-1" strike="noStrike">
                <a:solidFill>
                  <a:srgbClr val="ffffff"/>
                </a:solidFill>
                <a:latin typeface="Times New Roman"/>
              </a:rPr>
              <a:t>+ 8x</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a:t>
            </a:r>
            <a:r>
              <a:rPr b="0" lang="en-US" sz="2800" spc="-1" strike="noStrike" baseline="-25000">
                <a:solidFill>
                  <a:srgbClr val="ffffff"/>
                </a:solidFill>
                <a:latin typeface="Times New Roman"/>
              </a:rPr>
              <a:t> </a:t>
            </a:r>
            <a:r>
              <a:rPr b="0" lang="en-US" sz="2800" spc="-1" strike="noStrike">
                <a:solidFill>
                  <a:srgbClr val="ffffff"/>
                </a:solidFill>
                <a:latin typeface="Times New Roman"/>
              </a:rPr>
              <a:t>= 351</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2  3            x</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366</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  4  5  6   , x = x</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and    b =   804</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7  8  0           x</a:t>
            </a:r>
            <a:r>
              <a:rPr b="0" lang="en-US" sz="2800" spc="-1" strike="noStrike" baseline="-25000">
                <a:solidFill>
                  <a:srgbClr val="ffffff"/>
                </a:solidFill>
                <a:latin typeface="Times New Roman"/>
              </a:rPr>
              <a:t>3</a:t>
            </a:r>
            <a:r>
              <a:rPr b="0" lang="en-US" sz="2800" spc="-1" strike="noStrike">
                <a:solidFill>
                  <a:srgbClr val="ffffff"/>
                </a:solidFill>
                <a:latin typeface="Times New Roman"/>
              </a:rPr>
              <a:t>                     35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n, Ax = b or x = A</a:t>
            </a:r>
            <a:r>
              <a:rPr b="0" lang="en-GB" sz="3200" spc="-1" strike="noStrike" baseline="30000">
                <a:solidFill>
                  <a:srgbClr val="ffffff"/>
                </a:solidFill>
                <a:latin typeface="Times New Roman"/>
              </a:rPr>
              <a:t>-1</a:t>
            </a:r>
            <a:r>
              <a:rPr b="0" lang="en-GB" sz="3200" spc="-1" strike="noStrike">
                <a:solidFill>
                  <a:srgbClr val="ffffff"/>
                </a:solidFill>
                <a:latin typeface="Times New Roman"/>
              </a:rPr>
              <a:t>b. Calculating the inverse of A, and substituting it in the last equ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a:t>
            </a:r>
            <a:r>
              <a:rPr b="0" lang="en-US" sz="3200" spc="-1" strike="noStrike" baseline="-25000">
                <a:solidFill>
                  <a:srgbClr val="ffffff"/>
                </a:solidFill>
                <a:latin typeface="Times New Roman"/>
              </a:rPr>
              <a:t>1      </a:t>
            </a:r>
            <a:r>
              <a:rPr b="0" lang="en-US" sz="3200" spc="-1" strike="noStrike">
                <a:solidFill>
                  <a:srgbClr val="ffffff"/>
                </a:solidFill>
                <a:latin typeface="Times New Roman"/>
              </a:rPr>
              <a:t>2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 = x</a:t>
            </a:r>
            <a:r>
              <a:rPr b="0" lang="en-US" sz="3200" spc="-1" strike="noStrike" baseline="-25000">
                <a:solidFill>
                  <a:srgbClr val="ffffff"/>
                </a:solidFill>
                <a:latin typeface="Times New Roman"/>
              </a:rPr>
              <a:t>2 </a:t>
            </a:r>
            <a:r>
              <a:rPr b="0" lang="en-US" sz="3200" spc="-1" strike="noStrike">
                <a:solidFill>
                  <a:srgbClr val="ffffff"/>
                </a:solidFill>
                <a:latin typeface="Times New Roman"/>
              </a:rPr>
              <a:t>= 22    i.e. x</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25, x</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 22 and x</a:t>
            </a:r>
            <a:r>
              <a:rPr b="0" lang="en-US" sz="3200" spc="-1" strike="noStrike" baseline="-25000">
                <a:solidFill>
                  <a:srgbClr val="ffffff"/>
                </a:solidFill>
                <a:latin typeface="Times New Roman"/>
              </a:rPr>
              <a:t>3</a:t>
            </a:r>
            <a:r>
              <a:rPr b="0" lang="en-US" sz="3200" spc="-1" strike="noStrike">
                <a:solidFill>
                  <a:srgbClr val="ffffff"/>
                </a:solidFill>
                <a:latin typeface="Times New Roman"/>
              </a:rPr>
              <a:t> = 9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a:t>
            </a:r>
            <a:r>
              <a:rPr b="0" lang="en-US" sz="3200" spc="-1" strike="noStrike" baseline="-25000">
                <a:solidFill>
                  <a:srgbClr val="ffffff"/>
                </a:solidFill>
                <a:latin typeface="Times New Roman"/>
              </a:rPr>
              <a:t>3       </a:t>
            </a:r>
            <a:r>
              <a:rPr b="0" lang="en-US" sz="3200" spc="-1" strike="noStrike">
                <a:solidFill>
                  <a:srgbClr val="ffffff"/>
                </a:solidFill>
                <a:latin typeface="Times New Roman"/>
              </a:rPr>
              <a:t>9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cont.)</a:t>
            </a: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n MATLAB,</a:t>
            </a:r>
            <a:endParaRPr b="0" lang="en-US" sz="16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A=[1 2 3;4 5 6</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7 8 0]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1     2     3</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4     5     6</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7     8     0</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b=[366;804;35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b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366</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804</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35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det(A)  % calculates the determinant of A (needs to be other than 0)</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ns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27</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x=inv(A)*b  % x = A</a:t>
            </a:r>
            <a:r>
              <a:rPr b="0" lang="en-GB" sz="1400" spc="-1" strike="noStrike" baseline="30000">
                <a:solidFill>
                  <a:srgbClr val="ffffff"/>
                </a:solidFill>
                <a:latin typeface="Times New Roman"/>
              </a:rPr>
              <a:t>-1</a:t>
            </a:r>
            <a:r>
              <a:rPr b="0" lang="en-GB" sz="1400" spc="-1" strike="noStrike">
                <a:solidFill>
                  <a:srgbClr val="ffffff"/>
                </a:solidFill>
                <a:latin typeface="Times New Roman"/>
              </a:rPr>
              <a:t>*b</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x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2.5000e+00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2.2000e+00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9.9000e+001</a:t>
            </a:r>
            <a:endParaRPr b="0" lang="en-US" sz="14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Relational and Logical Operations</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imes New Roman"/>
              </a:rPr>
              <a:t>Relational operator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rPr>
              <a:t>Relational Operator</a:t>
            </a:r>
            <a:r>
              <a:rPr b="0" lang="en-GB" sz="2000" spc="-1" strike="noStrike">
                <a:solidFill>
                  <a:srgbClr val="ffffff"/>
                </a:solidFill>
                <a:latin typeface="Times New Roman"/>
              </a:rPr>
              <a:t>                       </a:t>
            </a:r>
            <a:r>
              <a:rPr b="0" lang="en-GB" sz="2000" spc="-1" strike="noStrike" u="sng">
                <a:solidFill>
                  <a:srgbClr val="ffffff"/>
                </a:solidFill>
                <a:uFillTx/>
                <a:latin typeface="Times New Roman"/>
              </a:rPr>
              <a:t>Descriptio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t;                                               less tha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t;=                                             less than or equal to</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t;                                               greater tha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t;=                                             greater than or equal to</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equal to</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not equal t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s</a:t>
            </a:r>
            <a:endParaRPr b="0" lang="en-US" sz="4400" spc="-1" strike="noStrike">
              <a:solidFill>
                <a:srgbClr val="ffcc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A=1:9</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B=9-A</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8     7     6     5     4     3     2     1     0</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tf=A&gt;4  % finds elements of A that are greater than 4.</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f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     1     1     1     1     1</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tf=B-(A&gt;2)  % finds where A&gt;2 and subtracts the resulting vector from B</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f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     7     5     4     3     2     1     0    -1</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Relational and Logical Operations</a:t>
            </a: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Times New Roman"/>
              </a:rPr>
              <a:t>Logical operators</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Times New Roman"/>
              </a:rPr>
              <a:t>Logical Operator</a:t>
            </a:r>
            <a:r>
              <a:rPr b="0" lang="en-GB" sz="1800" spc="-1" strike="noStrike">
                <a:solidFill>
                  <a:srgbClr val="ffffff"/>
                </a:solidFill>
                <a:latin typeface="Times New Roman"/>
              </a:rPr>
              <a:t>                       </a:t>
            </a:r>
            <a:r>
              <a:rPr b="0" lang="en-GB" sz="1800" spc="-1" strike="noStrike" u="sng">
                <a:solidFill>
                  <a:srgbClr val="ffffff"/>
                </a:solidFill>
                <a:uFillTx/>
                <a:latin typeface="Times New Roman"/>
              </a:rPr>
              <a:t>Description</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                                        AND</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OR</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NOT</a:t>
            </a:r>
            <a:endParaRPr b="0" lang="en-US" sz="18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Times New Roman"/>
              </a:rPr>
              <a:t>Example</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A=1:9</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tf=(A&gt;2)&amp;(A&lt;6)  % returns ones where A is greater than 2 AND less than 6</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f =</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     1     1     1     0     0     0     0</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ther Relational and Logical Functions</a:t>
            </a: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or(x,y) Exclusive OR operation. Return ones where either x or y is nonzero (True). Return zeros where both x and y are zero (False) or both are nonzero (Tru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x) Return one if </a:t>
            </a:r>
            <a:r>
              <a:rPr b="0" i="1" lang="en-US" sz="2800" spc="-1" strike="noStrike">
                <a:solidFill>
                  <a:srgbClr val="ffffff"/>
                </a:solidFill>
                <a:latin typeface="Times New Roman"/>
              </a:rPr>
              <a:t>any </a:t>
            </a:r>
            <a:r>
              <a:rPr b="0" lang="en-US" sz="2800" spc="-1" strike="noStrike">
                <a:solidFill>
                  <a:srgbClr val="ffffff"/>
                </a:solidFill>
                <a:latin typeface="Times New Roman"/>
              </a:rPr>
              <a:t>element in a vector x is nonzero. Return one for each column in a matrix that has nonzero elemen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x) Return one if </a:t>
            </a:r>
            <a:r>
              <a:rPr b="0" i="1" lang="en-US" sz="2800" spc="-1" strike="noStrike">
                <a:solidFill>
                  <a:srgbClr val="ffffff"/>
                </a:solidFill>
                <a:latin typeface="Times New Roman"/>
              </a:rPr>
              <a:t>all</a:t>
            </a:r>
            <a:r>
              <a:rPr b="0" lang="en-US" sz="2800" spc="-1" strike="noStrike">
                <a:solidFill>
                  <a:srgbClr val="ffffff"/>
                </a:solidFill>
                <a:latin typeface="Times New Roman"/>
              </a:rPr>
              <a:t> elements in a vector x are nonzero. Return one for each column in a matrix x that has all nonzero element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Loo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Loo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else-end Constru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witch-case Constru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 MATrix LABoratory</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iginally a user interface for standard routines in numerical linear algebra (Lapak/Linpak) designed by Cleve Moler</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rcialized in 1984 by Mathworks </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3 per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5, Mathworks have 350 employees and $50M in sale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 Mathworks is present in more than 100 countries and employing more than 1000 peopl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Loop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General form of a for loop</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x=arra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mand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Loop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General form of a while loop</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expressio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mand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else-end Construction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The simplest if-else-end construction i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expression</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mand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 </a:t>
            </a:r>
            <a:endParaRPr b="0" lang="en-US" sz="1800" spc="-1" strike="noStrike">
              <a:solidFill>
                <a:srgbClr val="ffffff"/>
              </a:solidFill>
              <a:latin typeface="Times New Roman"/>
            </a:endParaRPr>
          </a:p>
          <a:p>
            <a:pPr marL="609480" indent="-609480">
              <a:spcBef>
                <a:spcPts val="45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cases where there are two alternatives, the if-else-end construction i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expression</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mands evaluated if True</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se</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mands evaluated if False</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1" lang="en-US" sz="1400" spc="-1" strike="noStrike">
                <a:solidFill>
                  <a:srgbClr val="ffffff"/>
                </a:solidFill>
                <a:latin typeface="Times New Roman"/>
              </a:rPr>
              <a:t>when there are three or more alternatives, the if-else-end construction takes the form</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expression1</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1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 expression2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2 is True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 expression3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3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 expression4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4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no other expression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witch-case Constructions </a:t>
            </a:r>
            <a:endParaRPr b="0" lang="en-US" sz="32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ch expression</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se test_expression1</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ands1…</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se {test_expression2, test_expression3,test_expression4}</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ands2…</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therwise</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ands3…</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plot command through examples</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inspace(0,2*pi,30); % creates row vector x starting with zero, ending at 2*pi, having 30 element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sin(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cos(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ot(x,y,x,z)  % plots vector y vs. vector x and vector z vs. vector x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abel('Independent Variable X')  % labels the x-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label('Dependent Variables Y and Z')  % labels the y-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tle('Sine and Cosine Curves')  % entitles the fig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inspace(0,2*pi,30); % creates row vector x starting with zero, ending at 2*pi, having 30 element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sin(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cos(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ot(x,y,'b:p',x,z,'c-o')  % plots vector y vs. vector x and vector z vs. vector 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p and c-o specify colour, line style and marker of the curv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abel('Independent Variable X')  % labels the x-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label('Dependent Variables Y and Z')  % labels the y-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tle('Sine and Cosine Curves')  % entitles the figur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id on  % adds grid lines to the current ax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xis off  % turns off all axis labeling and background</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Symbol</a:t>
            </a:r>
            <a:r>
              <a:rPr b="1" lang="en-US" sz="1600" spc="-1" strike="noStrike">
                <a:solidFill>
                  <a:srgbClr val="ffffff"/>
                </a:solidFill>
                <a:latin typeface="Times New Roman"/>
              </a:rPr>
              <a:t>       </a:t>
            </a:r>
            <a:r>
              <a:rPr b="1" lang="en-US" sz="1600" spc="-1" strike="noStrike" u="sng">
                <a:solidFill>
                  <a:srgbClr val="ffffff"/>
                </a:solidFill>
                <a:uFillTx/>
                <a:latin typeface="Times New Roman"/>
              </a:rPr>
              <a:t>Colour</a:t>
            </a:r>
            <a:r>
              <a:rPr b="1" lang="en-US" sz="1600" spc="-1" strike="noStrike">
                <a:solidFill>
                  <a:srgbClr val="ffffff"/>
                </a:solidFill>
                <a:latin typeface="Times New Roman"/>
              </a:rPr>
              <a:t>          </a:t>
            </a:r>
            <a:r>
              <a:rPr b="1" lang="en-US" sz="1600" spc="-1" strike="noStrike" u="sng">
                <a:solidFill>
                  <a:srgbClr val="ffffff"/>
                </a:solidFill>
                <a:uFillTx/>
                <a:latin typeface="Times New Roman"/>
              </a:rPr>
              <a:t>Symbol</a:t>
            </a:r>
            <a:r>
              <a:rPr b="1" lang="en-US" sz="1600" spc="-1" strike="noStrike">
                <a:solidFill>
                  <a:srgbClr val="ffffff"/>
                </a:solidFill>
                <a:latin typeface="Times New Roman"/>
              </a:rPr>
              <a:t>       </a:t>
            </a:r>
            <a:r>
              <a:rPr b="1" lang="en-US" sz="1600" spc="-1" strike="noStrike" u="sng">
                <a:solidFill>
                  <a:srgbClr val="ffffff"/>
                </a:solidFill>
                <a:uFillTx/>
                <a:latin typeface="Times New Roman"/>
              </a:rPr>
              <a:t>Marker</a:t>
            </a:r>
            <a:r>
              <a:rPr b="1" lang="en-US" sz="1600" spc="-1" strike="noStrike">
                <a:solidFill>
                  <a:srgbClr val="ffffff"/>
                </a:solidFill>
                <a:latin typeface="Times New Roman"/>
              </a:rPr>
              <a:t>                 </a:t>
            </a:r>
            <a:r>
              <a:rPr b="1" lang="en-US" sz="1600" spc="-1" strike="noStrike" u="sng">
                <a:solidFill>
                  <a:srgbClr val="ffffff"/>
                </a:solidFill>
                <a:uFillTx/>
                <a:latin typeface="Times New Roman"/>
              </a:rPr>
              <a:t>Symbol</a:t>
            </a:r>
            <a:r>
              <a:rPr b="1" lang="en-US" sz="1600" spc="-1" strike="noStrike">
                <a:solidFill>
                  <a:srgbClr val="ffffff"/>
                </a:solidFill>
                <a:latin typeface="Times New Roman"/>
              </a:rPr>
              <a:t>       </a:t>
            </a:r>
            <a:r>
              <a:rPr b="1" lang="en-US" sz="1600" spc="-1" strike="noStrike" u="sng">
                <a:solidFill>
                  <a:srgbClr val="ffffff"/>
                </a:solidFill>
                <a:uFillTx/>
                <a:latin typeface="Times New Roman"/>
              </a:rPr>
              <a:t>Line styl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y             yellow                  .             point                           -                 solid</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m            magenta               o             circle                           :                dotted</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             cyan                     x            x-mark                         -.              dashdot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r             red                        +            plus                             --               dashed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             green                    *            sta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blue                      s            squar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            white                   d            diamond</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k             black                    v           triangle (dow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triangle (up)</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lt;           triangle (left)</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t;           triangle (right)</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            pentagram</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h            hexagra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two-dimensional plotting featur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glog is the same as plot, except that logarithmic scales are used for both ax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milogx is the same as plot, except that the x-axis uses a logarithmic scale, and the y-axis uses a linear scal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milogy is the same as plot, except that the y-axis uses a logarithmic scale, and the x-axis uses a linear sca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re functionality in MATLAB contains compiled C-routines</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f the functionality is given as m-files, categorized in toolboxes</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ynamical simulation is performed in Simulink</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Oval 4"/>
          <p:cNvSpPr/>
          <p:nvPr/>
        </p:nvSpPr>
        <p:spPr>
          <a:xfrm>
            <a:off x="1828800" y="5334120"/>
            <a:ext cx="3886200" cy="990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Oval 5"/>
          <p:cNvSpPr/>
          <p:nvPr/>
        </p:nvSpPr>
        <p:spPr>
          <a:xfrm>
            <a:off x="6705720" y="563868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98" name="Oval 6"/>
          <p:cNvSpPr/>
          <p:nvPr/>
        </p:nvSpPr>
        <p:spPr>
          <a:xfrm>
            <a:off x="533520" y="480060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Proc.</a:t>
            </a:r>
            <a:endParaRPr b="0" lang="en-US" sz="2400" spc="-1" strike="noStrike">
              <a:solidFill>
                <a:srgbClr val="ffffff"/>
              </a:solidFill>
              <a:latin typeface="Times New Roman"/>
            </a:endParaRPr>
          </a:p>
        </p:txBody>
      </p:sp>
      <p:sp>
        <p:nvSpPr>
          <p:cNvPr id="99" name="Oval 7"/>
          <p:cNvSpPr/>
          <p:nvPr/>
        </p:nvSpPr>
        <p:spPr>
          <a:xfrm>
            <a:off x="3276720" y="449568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Syst.</a:t>
            </a:r>
            <a:endParaRPr b="0" lang="en-US" sz="2400" spc="-1" strike="noStrike">
              <a:solidFill>
                <a:srgbClr val="ffffff"/>
              </a:solidFill>
              <a:latin typeface="Times New Roman"/>
            </a:endParaRPr>
          </a:p>
        </p:txBody>
      </p:sp>
      <p:sp>
        <p:nvSpPr>
          <p:cNvPr id="100" name="Oval 8"/>
          <p:cNvSpPr/>
          <p:nvPr/>
        </p:nvSpPr>
        <p:spPr>
          <a:xfrm>
            <a:off x="5791320" y="480060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ink</a:t>
            </a:r>
            <a:endParaRPr b="0" lang="en-US" sz="2400" spc="-1" strike="noStrike">
              <a:solidFill>
                <a:srgbClr val="ffffff"/>
              </a:solidFill>
              <a:latin typeface="Times New Roman"/>
            </a:endParaRPr>
          </a:p>
        </p:txBody>
      </p:sp>
      <p:sp>
        <p:nvSpPr>
          <p:cNvPr id="101" name="Oval 9"/>
          <p:cNvSpPr/>
          <p:nvPr/>
        </p:nvSpPr>
        <p:spPr>
          <a:xfrm>
            <a:off x="2209680" y="5562720"/>
            <a:ext cx="1524240" cy="533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kernel</a:t>
            </a:r>
            <a:endParaRPr b="0" lang="en-US" sz="2400" spc="-1" strike="noStrike">
              <a:solidFill>
                <a:srgbClr val="ffffff"/>
              </a:solidFill>
              <a:latin typeface="Times New Roman"/>
            </a:endParaRPr>
          </a:p>
        </p:txBody>
      </p:sp>
      <p:sp>
        <p:nvSpPr>
          <p:cNvPr id="102" name="Rectangle 10"/>
          <p:cNvSpPr/>
          <p:nvPr/>
        </p:nvSpPr>
        <p:spPr>
          <a:xfrm>
            <a:off x="3961800" y="5562720"/>
            <a:ext cx="104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fi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ne plo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plot command from the 2-D world can be extended into three dimensions with plot3. The format is the same as the 2-D plot, except the data are in triples rather than in part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ne plo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plot3 command through an example</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linspace(0,10*pi); % generates a row vector of 100 linearl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qually spaced points between 0 and 10*pi.</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ot3(sin(t),cos(t),t) % where sin(t),cos(t) and t are three vectors of the same length, plot3 plots a line in 3-space through the points whose coordinates are the elements of x, y and z.</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tle('Helix'),xlabel('sin(t)'),ylabel('cos(t)'),zlabel('t') % labels the x,y,z axis and entitles the figur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pic>
        <p:nvPicPr>
          <p:cNvPr id="17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h and Surface plo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 defines a </a:t>
            </a:r>
            <a:r>
              <a:rPr b="1" i="1" lang="en-US" sz="2800" spc="-1" strike="noStrike">
                <a:solidFill>
                  <a:srgbClr val="ffffff"/>
                </a:solidFill>
                <a:latin typeface="Times New Roman"/>
              </a:rPr>
              <a:t>mesh </a:t>
            </a:r>
            <a:r>
              <a:rPr b="0" lang="en-US" sz="2800" spc="-1" strike="noStrike">
                <a:solidFill>
                  <a:srgbClr val="ffffff"/>
                </a:solidFill>
                <a:latin typeface="Times New Roman"/>
              </a:rPr>
              <a:t>surface by the z</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es of points above a rectangular grid in th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y plane. It forms a plot by joining adjacent poi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straight lines. The result looks like a fishing net with the knots at the data points. Mesh plots are very useful for visualizing large matrices or for plotting functions of two variable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h and Surface plo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first step in generating the mesh plot of a function of two variables, z=f(x,y), is to generate X and Y matrices consisting of repeated rows and columns, respectively, over some range of the variables x and y. MATLAB provides the function meshgrid for this purpose. [X,Y]=meshgrid(x,y) creates a matrix X whose rows are copies of the vector x, and a matrix Y whose columns are copies of the vector y. This pair of matrices may then be used to evaluate functions of the two variables using MATLAB’s array mathematics featur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mesh and meshgrid command through an example</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GB" sz="2400" spc="-1" strike="noStrike">
                <a:solidFill>
                  <a:srgbClr val="ffffff"/>
                </a:solidFill>
                <a:latin typeface="Times New Roman"/>
              </a:rPr>
              <a:t>=</a:t>
            </a:r>
            <a:r>
              <a:rPr b="0" lang="en-US" sz="2400" spc="-1" strike="noStrike">
                <a:solidFill>
                  <a:srgbClr val="ffffff"/>
                </a:solidFill>
                <a:latin typeface="Times New Roman"/>
              </a:rPr>
              <a:t>-7.5</a:t>
            </a:r>
            <a:r>
              <a:rPr b="0" lang="en-GB" sz="2400" spc="-1" strike="noStrike">
                <a:solidFill>
                  <a:srgbClr val="ffffff"/>
                </a:solidFill>
                <a:latin typeface="Times New Roman"/>
              </a:rPr>
              <a:t>:</a:t>
            </a:r>
            <a:r>
              <a:rPr b="0" lang="en-US" sz="2400" spc="-1" strike="noStrike">
                <a:solidFill>
                  <a:srgbClr val="ffffff"/>
                </a:solidFill>
                <a:latin typeface="Times New Roman"/>
              </a:rPr>
              <a:t>.5:7.5</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y=1:3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Y]=meshgrid(x,y);</a:t>
            </a:r>
            <a:r>
              <a:rPr b="0" lang="en-US" sz="2400" spc="-1" strike="noStrike">
                <a:solidFill>
                  <a:srgbClr val="ffffff"/>
                </a:solidFill>
                <a:latin typeface="Times New Roman"/>
              </a:rPr>
              <a:t>  % </a:t>
            </a:r>
            <a:r>
              <a:rPr b="0" lang="en-GB" sz="2400" spc="-1" strike="noStrike">
                <a:solidFill>
                  <a:srgbClr val="ffffff"/>
                </a:solidFill>
                <a:latin typeface="Times New Roman"/>
              </a:rPr>
              <a:t>X and Y arrays for 3-D plo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sqrt(X.^2+Y.^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sh(X,Y,R)</a:t>
            </a:r>
            <a:r>
              <a:rPr b="0" lang="en-US" sz="2400" spc="-1" strike="noStrike">
                <a:solidFill>
                  <a:srgbClr val="ffffff"/>
                </a:solidFill>
                <a:latin typeface="Times New Roman"/>
              </a:rPr>
              <a:t>  % </a:t>
            </a:r>
            <a:r>
              <a:rPr b="0" lang="en-GB" sz="2400" spc="-1" strike="noStrike">
                <a:solidFill>
                  <a:srgbClr val="ffffff"/>
                </a:solidFill>
                <a:latin typeface="Times New Roman"/>
              </a:rPr>
              <a:t>3-D mesh surf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pic>
        <p:nvPicPr>
          <p:cNvPr id="184" name="Picture 6" descr=""/>
          <p:cNvPicPr/>
          <p:nvPr/>
        </p:nvPicPr>
        <p:blipFill>
          <a:blip r:embed="rId1"/>
          <a:stretch/>
        </p:blipFill>
        <p:spPr>
          <a:xfrm>
            <a:off x="777960" y="1981080"/>
            <a:ext cx="758808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Mesh and Surface plo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surface plot of the same matrix R looks like the mesh plot previously generated, except that the spaces between the lines are filled in. Plots of this type are generated using the surf function, which has all of the same arguments as the mesh fun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mesh and meshgrid command through an example</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GB" sz="2400" spc="-1" strike="noStrike">
                <a:solidFill>
                  <a:srgbClr val="ffffff"/>
                </a:solidFill>
                <a:latin typeface="Times New Roman"/>
              </a:rPr>
              <a:t>=</a:t>
            </a:r>
            <a:r>
              <a:rPr b="0" lang="en-US" sz="2400" spc="-1" strike="noStrike">
                <a:solidFill>
                  <a:srgbClr val="ffffff"/>
                </a:solidFill>
                <a:latin typeface="Times New Roman"/>
              </a:rPr>
              <a:t>-7.5</a:t>
            </a:r>
            <a:r>
              <a:rPr b="0" lang="en-GB" sz="2400" spc="-1" strike="noStrike">
                <a:solidFill>
                  <a:srgbClr val="ffffff"/>
                </a:solidFill>
                <a:latin typeface="Times New Roman"/>
              </a:rPr>
              <a:t>:</a:t>
            </a:r>
            <a:r>
              <a:rPr b="0" lang="en-US" sz="2400" spc="-1" strike="noStrike">
                <a:solidFill>
                  <a:srgbClr val="ffffff"/>
                </a:solidFill>
                <a:latin typeface="Times New Roman"/>
              </a:rPr>
              <a:t>.5:7.5</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y=1:3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Y]=meshgrid(x,y);</a:t>
            </a:r>
            <a:r>
              <a:rPr b="0" lang="en-US" sz="2400" spc="-1" strike="noStrike">
                <a:solidFill>
                  <a:srgbClr val="ffffff"/>
                </a:solidFill>
                <a:latin typeface="Times New Roman"/>
              </a:rPr>
              <a:t>  % </a:t>
            </a:r>
            <a:r>
              <a:rPr b="0" lang="en-GB" sz="2400" spc="-1" strike="noStrike">
                <a:solidFill>
                  <a:srgbClr val="ffffff"/>
                </a:solidFill>
                <a:latin typeface="Times New Roman"/>
              </a:rPr>
              <a:t>X and Y arrays for 3-D plo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sqrt(X.^2+Y.^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t>
            </a:r>
            <a:r>
              <a:rPr b="0" lang="en-GB" sz="2400" spc="-1" strike="noStrike">
                <a:solidFill>
                  <a:srgbClr val="ffffff"/>
                </a:solidFill>
                <a:latin typeface="Times New Roman"/>
              </a:rPr>
              <a:t>(X,Y,R)</a:t>
            </a:r>
            <a:r>
              <a:rPr b="0" lang="en-US" sz="2400" spc="-1" strike="noStrike">
                <a:solidFill>
                  <a:srgbClr val="ffffff"/>
                </a:solidFill>
                <a:latin typeface="Times New Roman"/>
              </a:rPr>
              <a:t>  % </a:t>
            </a:r>
            <a:r>
              <a:rPr b="0" lang="en-GB" sz="2400" spc="-1" strike="noStrike">
                <a:solidFill>
                  <a:srgbClr val="ffffff"/>
                </a:solidFill>
                <a:latin typeface="Times New Roman"/>
              </a:rPr>
              <a:t>3-D colo</a:t>
            </a:r>
            <a:r>
              <a:rPr b="0" lang="en-US" sz="2400" spc="-1" strike="noStrike">
                <a:solidFill>
                  <a:srgbClr val="ffffff"/>
                </a:solidFill>
                <a:latin typeface="Times New Roman"/>
              </a:rPr>
              <a:t>u</a:t>
            </a:r>
            <a:r>
              <a:rPr b="0" lang="en-GB" sz="2400" spc="-1" strike="noStrike">
                <a:solidFill>
                  <a:srgbClr val="ffffff"/>
                </a:solidFill>
                <a:latin typeface="Times New Roman"/>
              </a:rPr>
              <a:t>red surf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pic>
        <p:nvPicPr>
          <p:cNvPr id="190" name="" descr=""/>
          <p:cNvPicPr/>
          <p:nvPr/>
        </p:nvPicPr>
        <p:blipFill>
          <a:blip r:embed="rId1"/>
          <a:stretch/>
        </p:blipFill>
        <p:spPr>
          <a:xfrm>
            <a:off x="685800" y="1981080"/>
            <a:ext cx="7772400" cy="4114800"/>
          </a:xfrm>
          <a:prstGeom prst="rect">
            <a:avLst/>
          </a:prstGeom>
          <a:ln w="0">
            <a:noFill/>
          </a:ln>
        </p:spPr>
      </p:pic>
      <p:pic>
        <p:nvPicPr>
          <p:cNvPr id="191" name="Picture 4" descr=""/>
          <p:cNvPicPr/>
          <p:nvPr/>
        </p:nvPicPr>
        <p:blipFill>
          <a:blip r:embed="rId2"/>
          <a:stretch/>
        </p:blipFill>
        <p:spPr>
          <a:xfrm>
            <a:off x="857160" y="2143080"/>
            <a:ext cx="7429680" cy="39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MATLAB contains thousands of m-files, source code that can be copied and alter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 is available for PC (Windows/Linux), Mac and Unix (Sun/HP/VMS/SGI/Alph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s m-files are generally platform independ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test version is called MATLAB 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boxes</a:t>
            </a:r>
            <a:br>
              <a:rPr sz="4400"/>
            </a:b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MATLAB is both an environment and a programming language, and one of its great strengths is the fact that the MATLAB language allows you to build your own reusable tools. You can easily create your own special functions and programs (known as M-files) in MATLAB code. As you write more and more MATLAB functions to deal with certain problems, you might be tempted to group related functions together into special directories for convenience. This leads directly to the concept of a Toolbox: a specialized collection of M-files for working on particular classes of proble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boxes</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oolboxes edited by MATLAB are more than just collections of useful functions; they represent the efforts of some of the world’s top researchers in fields such as control, signal processing, communications and many mo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boxes</a:t>
            </a: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ome of the toolboxes a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Processing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age Processing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System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bolic Math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ulink et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LAB i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igh level mathematical language</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matrix or array variabl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LAB use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hematical calculation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cks of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 simulati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matlab” – launches MATLAB</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LAB desktop appears containing tools:</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raphical User Interfaces) for managing files, variables and applications associated with MATLAB</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nk of the desktop as your instrument panel for MATLAB </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things to know about the desktop ar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 Tools – All of the tools managed by the desktop</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iguring the Desktop – Arranging the tools in the desktop</a:t>
            </a:r>
            <a:endParaRPr b="0" lang="en-US" sz="2000" spc="-1" strike="noStrike">
              <a:solidFill>
                <a:srgbClr val="ffffff"/>
              </a:solidFill>
              <a:latin typeface="Times New Roman"/>
            </a:endParaRPr>
          </a:p>
          <a:p>
            <a:pPr marL="343080" indent="-3430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xit MATLAB, just type “quit or ex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WARN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for” loops are slow – try indexing matrice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LAB is bad at handling memory</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sensible with data analysi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kill the serv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DATA WARNING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ead large data files in one g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careful of calculations on large array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un more than two simulations at the same ti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read, calculate and write data in chunks, as the the memory requirement is considerably reduc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run large jobs at nigh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12:18:46Z</dcterms:created>
  <dc:creator>Ioannis Paraskevas</dc:creator>
  <dc:description/>
  <dc:language>en-US</dc:language>
  <cp:lastModifiedBy>CAPE</cp:lastModifiedBy>
  <dcterms:modified xsi:type="dcterms:W3CDTF">2018-02-05T16:10:49Z</dcterms:modified>
  <cp:revision>106</cp:revision>
  <dc:subject/>
  <dc:title>Array Operations</dc:title>
</cp:coreProperties>
</file>