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DED1-3BA9-4660-BED9-BDB5A9886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282C-DD1E-4DA5-98D5-11AD5E832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DAA4-10CF-4653-9E90-60BDA16DA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1AC1-09BF-4AC4-9787-9FB3CCC12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20C3-E360-42E0-BD39-9ABB9C332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9E44-C0FF-47CC-B774-C20A04AA8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550F-5985-49D3-9FFC-12E6E8874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196F-960C-4A02-A750-91E7D477D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E97D-BDF9-466D-9D01-D7B666560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FB4F-AA7C-4730-8873-65FB83CB0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8A26-F20F-4CC5-8D6D-420065953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5B0A-182C-4CCD-816F-3F1FCDE7F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019920"/>
            <a:ext cx="577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Cooper, S.Carmichael, University of Sal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019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437-68B0-4234-88C9-FC59DE4F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dversaries or Partn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85720" y="2057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eveloping Best Practice Guidelines for Partnering in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Professor R. Co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. Car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niversity of Salf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ims of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nalyse the design and operation of partnership arrangements in the design and construction process and to identify criteria upon which successful partnering between clients and contractors is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dentify benefits of partnering compared to more traditional non-collaborative 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develop a set of Best Practice Guidelines for the development and operation of Partnering arrangements in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 of manufacturing companies regarding their approach to and experiences of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 with major contractors, clients and supplier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ing partnering and non partnering projects in the construc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elopment of a Partner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ny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ategy &amp;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ona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itudes on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uidelines developed to illustrate the key issues for a more rigorous development of long term agreements which effectively integrate strategic and opera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processes have been developed, strategic and project specific, which suggest key stages and steps in setting up, developing and managing client - contractor partnering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deo production and final academic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ion partnering not as rigorously planned, developed or implemented as in manufacturing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the automotiv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ective Partnering requires cultural changes in individual companies as well as to the overall projec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ment of both procedures and processes are required at all levels in order to accommodate partnering and maintain continu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7T18:09:14Z</dcterms:created>
  <dc:creator>S Carmichael</dc:creator>
  <dc:description/>
  <dc:language>en-US</dc:language>
  <cp:lastModifiedBy>Keith Pickavance</cp:lastModifiedBy>
  <cp:lastPrinted>1998-07-06T23:41:56Z</cp:lastPrinted>
  <dcterms:modified xsi:type="dcterms:W3CDTF">2002-04-30T08:01:01Z</dcterms:modified>
  <cp:revision>75</cp:revision>
  <dc:subject/>
  <dc:title>Aims of Survey</dc:title>
</cp:coreProperties>
</file>