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7EB5-6538-468F-A286-9B2C2B1E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8BC8-9D3A-418A-8802-8166D4ADF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50C1-662D-4E2F-AC89-675C2F8DC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88E3-49DD-4B87-BFCD-0DE44B74A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90BD-D7B7-483E-8F5A-106837FD2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2A12-51C8-4A14-811F-1338A7DF6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D755-C291-4CC9-AB11-D9E5BD450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5481-E353-47FE-8DA4-61B2B612D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C823-E1AA-48E8-AFE9-7F4DD0FF7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8525-1035-4414-8DF2-D86619630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3198-7FA3-4F3F-919F-3563522A5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3ED2-63DD-49D7-8A72-22B2BE1BF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019920"/>
            <a:ext cx="577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Cooper, S.Carmichael, University of Sal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019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CFF-A4D0-4CB9-807B-66991483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artnering Policy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perceptions of partnering and effects of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nt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for development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ec Interview f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ntract &amp; Comm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0" y="140"/>
                </a:moveTo>
                <a:lnTo>
                  <a:pt x="185" y="0"/>
                </a:lnTo>
                <a:lnTo>
                  <a:pt x="2445" y="0"/>
                </a:lnTo>
                <a:lnTo>
                  <a:pt x="226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600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39760" y="1984320"/>
            <a:ext cx="3587760" cy="247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6000" y="4146480"/>
            <a:ext cx="388152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6000" y="383868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46000" y="352908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3222720"/>
            <a:ext cx="3881520" cy="217440"/>
          </a:xfrm>
          <a:custGeom>
            <a:avLst/>
            <a:gdLst/>
            <a:ahLst/>
            <a:rect l="l" t="t" r="r" b="b"/>
            <a:pathLst>
              <a:path w="1454" h="82">
                <a:moveTo>
                  <a:pt x="0" y="82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" y="291312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6000" y="260352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2293920"/>
            <a:ext cx="388152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000" y="1984320"/>
            <a:ext cx="388152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2445" y="0"/>
                </a:moveTo>
                <a:lnTo>
                  <a:pt x="2260" y="140"/>
                </a:lnTo>
                <a:lnTo>
                  <a:pt x="0" y="140"/>
                </a:lnTo>
                <a:lnTo>
                  <a:pt x="185" y="0"/>
                </a:lnTo>
                <a:lnTo>
                  <a:pt x="244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600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noFill/>
          <a:ln w="4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39760" y="1984320"/>
            <a:ext cx="3587760" cy="247176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31800" y="2084400"/>
            <a:ext cx="117720" cy="2527200"/>
          </a:xfrm>
          <a:custGeom>
            <a:avLst/>
            <a:gdLst/>
            <a:ahLst/>
            <a:rect l="l" t="t" r="r" b="b"/>
            <a:pathLst>
              <a:path w="74" h="1592">
                <a:moveTo>
                  <a:pt x="0" y="1592"/>
                </a:moveTo>
                <a:lnTo>
                  <a:pt x="0" y="55"/>
                </a:lnTo>
                <a:lnTo>
                  <a:pt x="74" y="0"/>
                </a:lnTo>
                <a:lnTo>
                  <a:pt x="74" y="1536"/>
                </a:lnTo>
                <a:lnTo>
                  <a:pt x="0" y="1592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90520" y="2171880"/>
            <a:ext cx="341280" cy="243972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90520" y="2084400"/>
            <a:ext cx="459000" cy="8748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3080" y="2800440"/>
            <a:ext cx="117720" cy="1811160"/>
          </a:xfrm>
          <a:custGeom>
            <a:avLst/>
            <a:gdLst/>
            <a:ahLst/>
            <a:rect l="l" t="t" r="r" b="b"/>
            <a:pathLst>
              <a:path w="74" h="1141">
                <a:moveTo>
                  <a:pt x="0" y="1141"/>
                </a:moveTo>
                <a:lnTo>
                  <a:pt x="0" y="56"/>
                </a:lnTo>
                <a:lnTo>
                  <a:pt x="74" y="0"/>
                </a:lnTo>
                <a:lnTo>
                  <a:pt x="74" y="1085"/>
                </a:lnTo>
                <a:lnTo>
                  <a:pt x="0" y="1141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1800" y="2889360"/>
            <a:ext cx="341280" cy="172224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31800" y="280044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0680" y="20574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8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55240" y="2743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27360" y="4361040"/>
            <a:ext cx="117360" cy="250560"/>
          </a:xfrm>
          <a:custGeom>
            <a:avLst/>
            <a:gdLst/>
            <a:ahLst/>
            <a:rect l="l" t="t" r="r" b="b"/>
            <a:pathLst>
              <a:path w="74" h="158">
                <a:moveTo>
                  <a:pt x="0" y="158"/>
                </a:moveTo>
                <a:lnTo>
                  <a:pt x="0" y="55"/>
                </a:lnTo>
                <a:lnTo>
                  <a:pt x="74" y="0"/>
                </a:lnTo>
                <a:lnTo>
                  <a:pt x="74" y="102"/>
                </a:lnTo>
                <a:lnTo>
                  <a:pt x="0" y="158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86080" y="4448160"/>
            <a:ext cx="341280" cy="16344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86080" y="4361040"/>
            <a:ext cx="45864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68640" y="4168800"/>
            <a:ext cx="117360" cy="442800"/>
          </a:xfrm>
          <a:custGeom>
            <a:avLst/>
            <a:gdLst/>
            <a:ahLst/>
            <a:rect l="l" t="t" r="r" b="b"/>
            <a:pathLst>
              <a:path w="74" h="279">
                <a:moveTo>
                  <a:pt x="0" y="279"/>
                </a:moveTo>
                <a:lnTo>
                  <a:pt x="0" y="55"/>
                </a:lnTo>
                <a:lnTo>
                  <a:pt x="74" y="0"/>
                </a:lnTo>
                <a:lnTo>
                  <a:pt x="74" y="223"/>
                </a:lnTo>
                <a:lnTo>
                  <a:pt x="0" y="279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27360" y="4255920"/>
            <a:ext cx="341280" cy="35568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27360" y="4168800"/>
            <a:ext cx="45864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95520" y="41544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17360" y="39625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2560" y="4035600"/>
            <a:ext cx="117720" cy="576000"/>
          </a:xfrm>
          <a:custGeom>
            <a:avLst/>
            <a:gdLst/>
            <a:ahLst/>
            <a:rect l="l" t="t" r="r" b="b"/>
            <a:pathLst>
              <a:path w="74" h="363">
                <a:moveTo>
                  <a:pt x="0" y="363"/>
                </a:moveTo>
                <a:lnTo>
                  <a:pt x="0" y="55"/>
                </a:lnTo>
                <a:lnTo>
                  <a:pt x="74" y="0"/>
                </a:lnTo>
                <a:lnTo>
                  <a:pt x="74" y="307"/>
                </a:lnTo>
                <a:lnTo>
                  <a:pt x="0" y="363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22720"/>
            <a:ext cx="341280" cy="48888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4035600"/>
            <a:ext cx="45900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5640" y="3510000"/>
            <a:ext cx="117360" cy="1101600"/>
          </a:xfrm>
          <a:custGeom>
            <a:avLst/>
            <a:gdLst/>
            <a:ahLst/>
            <a:rect l="l" t="t" r="r" b="b"/>
            <a:pathLst>
              <a:path w="74" h="694">
                <a:moveTo>
                  <a:pt x="0" y="694"/>
                </a:moveTo>
                <a:lnTo>
                  <a:pt x="0" y="55"/>
                </a:lnTo>
                <a:lnTo>
                  <a:pt x="74" y="0"/>
                </a:lnTo>
                <a:lnTo>
                  <a:pt x="74" y="638"/>
                </a:lnTo>
                <a:lnTo>
                  <a:pt x="0" y="694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22560" y="3597120"/>
            <a:ext cx="343080" cy="101448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2560" y="3510000"/>
            <a:ext cx="460440" cy="87120"/>
          </a:xfrm>
          <a:custGeom>
            <a:avLst/>
            <a:gdLst/>
            <a:ahLst/>
            <a:rect l="l" t="t" r="r" b="b"/>
            <a:pathLst>
              <a:path w="290" h="55">
                <a:moveTo>
                  <a:pt x="216" y="55"/>
                </a:moveTo>
                <a:lnTo>
                  <a:pt x="290" y="0"/>
                </a:lnTo>
                <a:lnTo>
                  <a:pt x="74" y="0"/>
                </a:lnTo>
                <a:lnTo>
                  <a:pt x="0" y="55"/>
                </a:lnTo>
                <a:lnTo>
                  <a:pt x="216" y="55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17280" y="38019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0360" y="32767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46000" y="2206440"/>
            <a:ext cx="1800" cy="247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06400" y="4678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06400" y="43689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06400" y="4059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06400" y="37497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06400" y="3440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806400" y="3133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06400" y="28242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06400" y="25160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806400" y="2206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7560" y="464040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5160" y="43308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5160" y="40212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5160" y="37130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5160" y="34034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160" y="30970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5160" y="27874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5160" y="24782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5160" y="21686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6000" y="4678200"/>
            <a:ext cx="358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4600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4156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3676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3376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0080" y="47340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57360" y="473400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6560" y="47340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0" y="140"/>
                </a:moveTo>
                <a:lnTo>
                  <a:pt x="185" y="0"/>
                </a:lnTo>
                <a:lnTo>
                  <a:pt x="2445" y="0"/>
                </a:lnTo>
                <a:lnTo>
                  <a:pt x="226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4204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5800" y="1984320"/>
            <a:ext cx="3587400" cy="247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040" y="410364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2040" y="374976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42040" y="339732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42040" y="3043080"/>
            <a:ext cx="388116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42040" y="2690640"/>
            <a:ext cx="388116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42040" y="2336760"/>
            <a:ext cx="388116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42040" y="1984320"/>
            <a:ext cx="388116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2445" y="0"/>
                </a:moveTo>
                <a:lnTo>
                  <a:pt x="2260" y="140"/>
                </a:lnTo>
                <a:lnTo>
                  <a:pt x="0" y="140"/>
                </a:lnTo>
                <a:lnTo>
                  <a:pt x="185" y="0"/>
                </a:lnTo>
                <a:lnTo>
                  <a:pt x="244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204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noFill/>
          <a:ln w="4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5800" y="1984320"/>
            <a:ext cx="3587400" cy="247176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7840" y="3587760"/>
            <a:ext cx="117360" cy="1023840"/>
          </a:xfrm>
          <a:custGeom>
            <a:avLst/>
            <a:gdLst/>
            <a:ahLst/>
            <a:rect l="l" t="t" r="r" b="b"/>
            <a:pathLst>
              <a:path w="74" h="645">
                <a:moveTo>
                  <a:pt x="0" y="645"/>
                </a:moveTo>
                <a:lnTo>
                  <a:pt x="0" y="57"/>
                </a:lnTo>
                <a:lnTo>
                  <a:pt x="74" y="0"/>
                </a:lnTo>
                <a:lnTo>
                  <a:pt x="74" y="589"/>
                </a:lnTo>
                <a:lnTo>
                  <a:pt x="0" y="645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86560" y="3678120"/>
            <a:ext cx="341280" cy="93348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6560" y="3587760"/>
            <a:ext cx="458640" cy="90360"/>
          </a:xfrm>
          <a:custGeom>
            <a:avLst/>
            <a:gdLst/>
            <a:ahLst/>
            <a:rect l="l" t="t" r="r" b="b"/>
            <a:pathLst>
              <a:path w="289" h="57">
                <a:moveTo>
                  <a:pt x="215" y="57"/>
                </a:moveTo>
                <a:lnTo>
                  <a:pt x="289" y="0"/>
                </a:lnTo>
                <a:lnTo>
                  <a:pt x="74" y="0"/>
                </a:lnTo>
                <a:lnTo>
                  <a:pt x="0" y="57"/>
                </a:lnTo>
                <a:lnTo>
                  <a:pt x="215" y="57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69120" y="3538440"/>
            <a:ext cx="117360" cy="1073160"/>
          </a:xfrm>
          <a:custGeom>
            <a:avLst/>
            <a:gdLst/>
            <a:ahLst/>
            <a:rect l="l" t="t" r="r" b="b"/>
            <a:pathLst>
              <a:path w="74" h="676">
                <a:moveTo>
                  <a:pt x="0" y="676"/>
                </a:moveTo>
                <a:lnTo>
                  <a:pt x="0" y="56"/>
                </a:lnTo>
                <a:lnTo>
                  <a:pt x="74" y="0"/>
                </a:lnTo>
                <a:lnTo>
                  <a:pt x="74" y="620"/>
                </a:lnTo>
                <a:lnTo>
                  <a:pt x="0" y="676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27840" y="3627360"/>
            <a:ext cx="341280" cy="98424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27840" y="3538440"/>
            <a:ext cx="45864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76560" y="33415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7840" y="32940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23040" y="4106880"/>
            <a:ext cx="117720" cy="504720"/>
          </a:xfrm>
          <a:custGeom>
            <a:avLst/>
            <a:gdLst/>
            <a:ahLst/>
            <a:rect l="l" t="t" r="r" b="b"/>
            <a:pathLst>
              <a:path w="74" h="318">
                <a:moveTo>
                  <a:pt x="0" y="318"/>
                </a:moveTo>
                <a:lnTo>
                  <a:pt x="0" y="56"/>
                </a:lnTo>
                <a:lnTo>
                  <a:pt x="74" y="0"/>
                </a:lnTo>
                <a:lnTo>
                  <a:pt x="74" y="262"/>
                </a:lnTo>
                <a:lnTo>
                  <a:pt x="0" y="318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81760" y="4195800"/>
            <a:ext cx="341280" cy="41580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1760" y="410688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64320" y="3597120"/>
            <a:ext cx="117720" cy="1014480"/>
          </a:xfrm>
          <a:custGeom>
            <a:avLst/>
            <a:gdLst/>
            <a:ahLst/>
            <a:rect l="l" t="t" r="r" b="b"/>
            <a:pathLst>
              <a:path w="74" h="639">
                <a:moveTo>
                  <a:pt x="0" y="639"/>
                </a:moveTo>
                <a:lnTo>
                  <a:pt x="0" y="56"/>
                </a:lnTo>
                <a:lnTo>
                  <a:pt x="74" y="0"/>
                </a:lnTo>
                <a:lnTo>
                  <a:pt x="74" y="583"/>
                </a:lnTo>
                <a:lnTo>
                  <a:pt x="0" y="639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23040" y="3686040"/>
            <a:ext cx="341280" cy="92556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23040" y="359712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5840" y="3886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13040" y="33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18600" y="2341440"/>
            <a:ext cx="117360" cy="2270160"/>
          </a:xfrm>
          <a:custGeom>
            <a:avLst/>
            <a:gdLst/>
            <a:ahLst/>
            <a:rect l="l" t="t" r="r" b="b"/>
            <a:pathLst>
              <a:path w="74" h="1430">
                <a:moveTo>
                  <a:pt x="0" y="1430"/>
                </a:moveTo>
                <a:lnTo>
                  <a:pt x="0" y="56"/>
                </a:lnTo>
                <a:lnTo>
                  <a:pt x="74" y="0"/>
                </a:lnTo>
                <a:lnTo>
                  <a:pt x="74" y="1374"/>
                </a:lnTo>
                <a:lnTo>
                  <a:pt x="0" y="1430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2430360"/>
            <a:ext cx="341280" cy="218124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2341440"/>
            <a:ext cx="45864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1320" y="2901960"/>
            <a:ext cx="117720" cy="1709640"/>
          </a:xfrm>
          <a:custGeom>
            <a:avLst/>
            <a:gdLst/>
            <a:ahLst/>
            <a:rect l="l" t="t" r="r" b="b"/>
            <a:pathLst>
              <a:path w="74" h="1077">
                <a:moveTo>
                  <a:pt x="0" y="1077"/>
                </a:moveTo>
                <a:lnTo>
                  <a:pt x="0" y="56"/>
                </a:lnTo>
                <a:lnTo>
                  <a:pt x="74" y="0"/>
                </a:lnTo>
                <a:lnTo>
                  <a:pt x="74" y="1021"/>
                </a:lnTo>
                <a:lnTo>
                  <a:pt x="0" y="1077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418600" y="2990880"/>
            <a:ext cx="342720" cy="162072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418600" y="2901960"/>
            <a:ext cx="460440" cy="88920"/>
          </a:xfrm>
          <a:custGeom>
            <a:avLst/>
            <a:gdLst/>
            <a:ahLst/>
            <a:rect l="l" t="t" r="r" b="b"/>
            <a:pathLst>
              <a:path w="290" h="56">
                <a:moveTo>
                  <a:pt x="216" y="56"/>
                </a:moveTo>
                <a:lnTo>
                  <a:pt x="290" y="0"/>
                </a:lnTo>
                <a:lnTo>
                  <a:pt x="74" y="0"/>
                </a:lnTo>
                <a:lnTo>
                  <a:pt x="0" y="56"/>
                </a:lnTo>
                <a:lnTo>
                  <a:pt x="216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167320" y="20970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360" y="26668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42040" y="2206440"/>
            <a:ext cx="1440" cy="247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01720" y="467820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01720" y="432576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01720" y="39718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301720" y="361944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301720" y="326376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301720" y="291312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301720" y="25574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301720" y="220680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23240" y="464040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90840" y="428796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90840" y="393372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90840" y="35812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90840" y="32274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90840" y="287496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90840" y="25210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90840" y="21686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2040" y="4678200"/>
            <a:ext cx="358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4204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3724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3280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92980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65760" y="47340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53040" y="473400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02240" y="47340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43840" y="487692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pplier Commi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56520" y="487692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mplex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artnering Arran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6% of those partnering reported a partnering policy was in place on the project. 61% reported that this policy was well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% of partnering respondents did not agree with the statement “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partnering arrangement did not produce any tangible benefit on the pro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8% of partnering respondents believed the arrangement resulted in identified cost savings with 76% believing it reduced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-Organisation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ummary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is having a positive impact on project costs and time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pite quality standards not being reported as higher in partnering situations, site work was considered to be of substantially higher quality on partnere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s understood what was realistically attainable in terms of quality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ummary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flict was reported as less evident on partnering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 problems were reported due to po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teams were perceived to be better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liers are still problematic and the use of IT is still disappointingly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354400" y="3189240"/>
            <a:ext cx="5197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eople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uccessful results of partnering were more about people working together effectiv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was not implemented through formal team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respondents reported a level of understanding and awareness of responsibilities at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developed to illustrate the key issues for a more rigorous development of long term agreements which effectively integrate strategic and opera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processes have been developed, strategic and project specific, which suggest key stages and steps in setting up, developing and managing of client - contractor partner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y &amp;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itudes on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on client and contractor companies in the building construction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estigation of manufacturing companies regarding their approach to and experiences of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with major contractor and clients, interviews with manufacturers and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ing partnering and non partnering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General Research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partnering not as rigorously planned, developed or implemented as in manufacturing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the automotiv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olves changes to organisational makeup's, and modifications to procedures and processes in order to accommodate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-organisation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artnering projects, standards were much more widely appre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lient is more aware of what is realistically attainable in terms of quality on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te work of all sub-contractors was perceived to be high on substantially more partnering projects than non-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st &amp;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495288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jects to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3520" y="48769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jects on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2350" h="135">
                <a:moveTo>
                  <a:pt x="0" y="135"/>
                </a:moveTo>
                <a:lnTo>
                  <a:pt x="177" y="0"/>
                </a:lnTo>
                <a:lnTo>
                  <a:pt x="2350" y="0"/>
                </a:lnTo>
                <a:lnTo>
                  <a:pt x="2173" y="135"/>
                </a:lnTo>
                <a:lnTo>
                  <a:pt x="0" y="13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9000" y="1889280"/>
            <a:ext cx="281160" cy="2660400"/>
          </a:xfrm>
          <a:custGeom>
            <a:avLst/>
            <a:gdLst/>
            <a:ahLst/>
            <a:rect l="l" t="t" r="r" b="b"/>
            <a:pathLst>
              <a:path w="177" h="1676">
                <a:moveTo>
                  <a:pt x="0" y="1676"/>
                </a:moveTo>
                <a:lnTo>
                  <a:pt x="0" y="135"/>
                </a:lnTo>
                <a:lnTo>
                  <a:pt x="177" y="0"/>
                </a:lnTo>
                <a:lnTo>
                  <a:pt x="177" y="1541"/>
                </a:lnTo>
                <a:lnTo>
                  <a:pt x="0" y="16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80160" y="1889280"/>
            <a:ext cx="3449520" cy="244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9000" y="406404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99000" y="3790800"/>
            <a:ext cx="3730680" cy="2160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99000" y="351936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99000" y="324792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99000" y="297648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99000" y="2703600"/>
            <a:ext cx="3730680" cy="21564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99000" y="243216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16072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99000" y="188928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2350" h="135">
                <a:moveTo>
                  <a:pt x="2350" y="0"/>
                </a:moveTo>
                <a:lnTo>
                  <a:pt x="2173" y="135"/>
                </a:lnTo>
                <a:lnTo>
                  <a:pt x="0" y="135"/>
                </a:lnTo>
                <a:lnTo>
                  <a:pt x="177" y="0"/>
                </a:lnTo>
                <a:lnTo>
                  <a:pt x="235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9000" y="1889280"/>
            <a:ext cx="281160" cy="2660400"/>
          </a:xfrm>
          <a:custGeom>
            <a:avLst/>
            <a:gdLst/>
            <a:ahLst/>
            <a:rect l="l" t="t" r="r" b="b"/>
            <a:pathLst>
              <a:path w="177" h="1676">
                <a:moveTo>
                  <a:pt x="0" y="1676"/>
                </a:moveTo>
                <a:lnTo>
                  <a:pt x="0" y="135"/>
                </a:lnTo>
                <a:lnTo>
                  <a:pt x="177" y="0"/>
                </a:lnTo>
                <a:lnTo>
                  <a:pt x="177" y="1541"/>
                </a:lnTo>
                <a:lnTo>
                  <a:pt x="0" y="1676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80160" y="1889280"/>
            <a:ext cx="3449520" cy="244620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57800" y="4327560"/>
            <a:ext cx="112680" cy="156960"/>
          </a:xfrm>
          <a:custGeom>
            <a:avLst/>
            <a:gdLst/>
            <a:ahLst/>
            <a:rect l="l" t="t" r="r" b="b"/>
            <a:pathLst>
              <a:path w="71" h="99">
                <a:moveTo>
                  <a:pt x="0" y="99"/>
                </a:moveTo>
                <a:lnTo>
                  <a:pt x="0" y="54"/>
                </a:lnTo>
                <a:lnTo>
                  <a:pt x="71" y="0"/>
                </a:lnTo>
                <a:lnTo>
                  <a:pt x="71" y="46"/>
                </a:lnTo>
                <a:lnTo>
                  <a:pt x="0" y="99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9480" y="4413240"/>
            <a:ext cx="328320" cy="712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4327560"/>
            <a:ext cx="44100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7" y="54"/>
                </a:moveTo>
                <a:lnTo>
                  <a:pt x="278" y="0"/>
                </a:lnTo>
                <a:lnTo>
                  <a:pt x="72" y="0"/>
                </a:lnTo>
                <a:lnTo>
                  <a:pt x="0" y="54"/>
                </a:lnTo>
                <a:lnTo>
                  <a:pt x="207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8280" y="3865680"/>
            <a:ext cx="110880" cy="618840"/>
          </a:xfrm>
          <a:custGeom>
            <a:avLst/>
            <a:gdLst/>
            <a:ahLst/>
            <a:rect l="l" t="t" r="r" b="b"/>
            <a:pathLst>
              <a:path w="70" h="390">
                <a:moveTo>
                  <a:pt x="0" y="390"/>
                </a:moveTo>
                <a:lnTo>
                  <a:pt x="0" y="53"/>
                </a:lnTo>
                <a:lnTo>
                  <a:pt x="70" y="0"/>
                </a:lnTo>
                <a:lnTo>
                  <a:pt x="70" y="337"/>
                </a:lnTo>
                <a:lnTo>
                  <a:pt x="0" y="390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7800" y="3949560"/>
            <a:ext cx="330480" cy="5349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7800" y="3865680"/>
            <a:ext cx="441360" cy="83880"/>
          </a:xfrm>
          <a:custGeom>
            <a:avLst/>
            <a:gdLst/>
            <a:ahLst/>
            <a:rect l="l" t="t" r="r" b="b"/>
            <a:pathLst>
              <a:path w="278" h="53">
                <a:moveTo>
                  <a:pt x="208" y="53"/>
                </a:moveTo>
                <a:lnTo>
                  <a:pt x="278" y="0"/>
                </a:lnTo>
                <a:lnTo>
                  <a:pt x="71" y="0"/>
                </a:lnTo>
                <a:lnTo>
                  <a:pt x="0" y="53"/>
                </a:lnTo>
                <a:lnTo>
                  <a:pt x="208" y="5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7280" y="4181400"/>
            <a:ext cx="114120" cy="303120"/>
          </a:xfrm>
          <a:custGeom>
            <a:avLst/>
            <a:gdLst/>
            <a:ahLst/>
            <a:rect l="l" t="t" r="r" b="b"/>
            <a:pathLst>
              <a:path w="72" h="191">
                <a:moveTo>
                  <a:pt x="0" y="191"/>
                </a:moveTo>
                <a:lnTo>
                  <a:pt x="0" y="52"/>
                </a:lnTo>
                <a:lnTo>
                  <a:pt x="72" y="0"/>
                </a:lnTo>
                <a:lnTo>
                  <a:pt x="72" y="138"/>
                </a:lnTo>
                <a:lnTo>
                  <a:pt x="0" y="191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0400" y="4264200"/>
            <a:ext cx="326880" cy="2203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0400" y="4181400"/>
            <a:ext cx="441000" cy="82800"/>
          </a:xfrm>
          <a:custGeom>
            <a:avLst/>
            <a:gdLst/>
            <a:ahLst/>
            <a:rect l="l" t="t" r="r" b="b"/>
            <a:pathLst>
              <a:path w="278" h="52">
                <a:moveTo>
                  <a:pt x="206" y="52"/>
                </a:moveTo>
                <a:lnTo>
                  <a:pt x="278" y="0"/>
                </a:lnTo>
                <a:lnTo>
                  <a:pt x="71" y="0"/>
                </a:lnTo>
                <a:lnTo>
                  <a:pt x="0" y="52"/>
                </a:lnTo>
                <a:lnTo>
                  <a:pt x="206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7400" y="4221000"/>
            <a:ext cx="111240" cy="263520"/>
          </a:xfrm>
          <a:custGeom>
            <a:avLst/>
            <a:gdLst/>
            <a:ahLst/>
            <a:rect l="l" t="t" r="r" b="b"/>
            <a:pathLst>
              <a:path w="70" h="166">
                <a:moveTo>
                  <a:pt x="0" y="166"/>
                </a:moveTo>
                <a:lnTo>
                  <a:pt x="0" y="54"/>
                </a:lnTo>
                <a:lnTo>
                  <a:pt x="70" y="0"/>
                </a:lnTo>
                <a:lnTo>
                  <a:pt x="70" y="113"/>
                </a:lnTo>
                <a:lnTo>
                  <a:pt x="0" y="166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7280" y="4307040"/>
            <a:ext cx="330120" cy="177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7280" y="4221000"/>
            <a:ext cx="441360" cy="8604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8" y="54"/>
                </a:moveTo>
                <a:lnTo>
                  <a:pt x="278" y="0"/>
                </a:lnTo>
                <a:lnTo>
                  <a:pt x="72" y="0"/>
                </a:lnTo>
                <a:lnTo>
                  <a:pt x="0" y="54"/>
                </a:lnTo>
                <a:lnTo>
                  <a:pt x="208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9640" y="1974960"/>
            <a:ext cx="111240" cy="2509560"/>
          </a:xfrm>
          <a:custGeom>
            <a:avLst/>
            <a:gdLst/>
            <a:ahLst/>
            <a:rect l="l" t="t" r="r" b="b"/>
            <a:pathLst>
              <a:path w="70" h="1581">
                <a:moveTo>
                  <a:pt x="0" y="1581"/>
                </a:moveTo>
                <a:lnTo>
                  <a:pt x="0" y="54"/>
                </a:lnTo>
                <a:lnTo>
                  <a:pt x="70" y="0"/>
                </a:lnTo>
                <a:lnTo>
                  <a:pt x="70" y="1528"/>
                </a:lnTo>
                <a:lnTo>
                  <a:pt x="0" y="1581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9520" y="2060640"/>
            <a:ext cx="330120" cy="24238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29520" y="1974960"/>
            <a:ext cx="44136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8" y="54"/>
                </a:moveTo>
                <a:lnTo>
                  <a:pt x="278" y="0"/>
                </a:lnTo>
                <a:lnTo>
                  <a:pt x="71" y="0"/>
                </a:lnTo>
                <a:lnTo>
                  <a:pt x="0" y="54"/>
                </a:lnTo>
                <a:lnTo>
                  <a:pt x="208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86880" y="2395440"/>
            <a:ext cx="114120" cy="2089080"/>
          </a:xfrm>
          <a:custGeom>
            <a:avLst/>
            <a:gdLst/>
            <a:ahLst/>
            <a:rect l="l" t="t" r="r" b="b"/>
            <a:pathLst>
              <a:path w="72" h="1316">
                <a:moveTo>
                  <a:pt x="0" y="1316"/>
                </a:moveTo>
                <a:lnTo>
                  <a:pt x="0" y="54"/>
                </a:lnTo>
                <a:lnTo>
                  <a:pt x="72" y="0"/>
                </a:lnTo>
                <a:lnTo>
                  <a:pt x="72" y="1263"/>
                </a:lnTo>
                <a:lnTo>
                  <a:pt x="0" y="1316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2481120"/>
            <a:ext cx="327240" cy="20034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9640" y="2395440"/>
            <a:ext cx="44136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6" y="54"/>
                </a:moveTo>
                <a:lnTo>
                  <a:pt x="278" y="0"/>
                </a:lnTo>
                <a:lnTo>
                  <a:pt x="70" y="0"/>
                </a:lnTo>
                <a:lnTo>
                  <a:pt x="0" y="54"/>
                </a:lnTo>
                <a:lnTo>
                  <a:pt x="206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99000" y="2103120"/>
            <a:ext cx="1800" cy="244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59400" y="45496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59400" y="42782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59400" y="4006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59400" y="3733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59400" y="34624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59400" y="3191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59400" y="29192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59400" y="2646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459400" y="2374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459400" y="21034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5800" y="45100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4760" y="42386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4760" y="39654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24760" y="36939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24760" y="34225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24760" y="31510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4760" y="28782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4760" y="26067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4760" y="23353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4760" y="20638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9000" y="4549680"/>
            <a:ext cx="344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900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4848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0084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4888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9400" y="4606920"/>
            <a:ext cx="39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0" y="46069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5160" y="4606920"/>
            <a:ext cx="29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21840" y="3170160"/>
            <a:ext cx="701640" cy="252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350280" y="3213000"/>
            <a:ext cx="52560" cy="52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448200" y="31878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artn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350280" y="3340080"/>
            <a:ext cx="52560" cy="507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448920" y="3313080"/>
            <a:ext cx="59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n Partn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2740" h="157">
                <a:moveTo>
                  <a:pt x="0" y="157"/>
                </a:moveTo>
                <a:lnTo>
                  <a:pt x="206" y="0"/>
                </a:lnTo>
                <a:lnTo>
                  <a:pt x="2740" y="0"/>
                </a:lnTo>
                <a:lnTo>
                  <a:pt x="2534" y="157"/>
                </a:lnTo>
                <a:lnTo>
                  <a:pt x="0" y="15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4480" y="1889280"/>
            <a:ext cx="327240" cy="2660400"/>
          </a:xfrm>
          <a:custGeom>
            <a:avLst/>
            <a:gdLst/>
            <a:ahLst/>
            <a:rect l="l" t="t" r="r" b="b"/>
            <a:pathLst>
              <a:path w="206" h="1676">
                <a:moveTo>
                  <a:pt x="0" y="1676"/>
                </a:moveTo>
                <a:lnTo>
                  <a:pt x="0" y="156"/>
                </a:lnTo>
                <a:lnTo>
                  <a:pt x="206" y="0"/>
                </a:lnTo>
                <a:lnTo>
                  <a:pt x="206" y="1519"/>
                </a:lnTo>
                <a:lnTo>
                  <a:pt x="0" y="16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1720" y="1889280"/>
            <a:ext cx="4022640" cy="241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4480" y="4060800"/>
            <a:ext cx="4349880" cy="24624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4480" y="381780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480" y="357660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480" y="333684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4480" y="3095640"/>
            <a:ext cx="4349880" cy="24588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4480" y="285264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4480" y="261288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4480" y="237168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4480" y="2131920"/>
            <a:ext cx="4349880" cy="24624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480" y="1889280"/>
            <a:ext cx="4349880" cy="2473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2740" h="157">
                <a:moveTo>
                  <a:pt x="2740" y="0"/>
                </a:moveTo>
                <a:lnTo>
                  <a:pt x="2534" y="157"/>
                </a:lnTo>
                <a:lnTo>
                  <a:pt x="0" y="157"/>
                </a:lnTo>
                <a:lnTo>
                  <a:pt x="206" y="0"/>
                </a:lnTo>
                <a:lnTo>
                  <a:pt x="274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480" y="1889280"/>
            <a:ext cx="327240" cy="2660400"/>
          </a:xfrm>
          <a:custGeom>
            <a:avLst/>
            <a:gdLst/>
            <a:ahLst/>
            <a:rect l="l" t="t" r="r" b="b"/>
            <a:pathLst>
              <a:path w="206" h="1676">
                <a:moveTo>
                  <a:pt x="0" y="1676"/>
                </a:moveTo>
                <a:lnTo>
                  <a:pt x="0" y="156"/>
                </a:lnTo>
                <a:lnTo>
                  <a:pt x="206" y="0"/>
                </a:lnTo>
                <a:lnTo>
                  <a:pt x="206" y="1519"/>
                </a:lnTo>
                <a:lnTo>
                  <a:pt x="0" y="1676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1720" y="1889280"/>
            <a:ext cx="4022640" cy="2411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8600" y="437508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7200" y="3908520"/>
            <a:ext cx="131760" cy="566640"/>
          </a:xfrm>
          <a:custGeom>
            <a:avLst/>
            <a:gdLst/>
            <a:ahLst/>
            <a:rect l="l" t="t" r="r" b="b"/>
            <a:pathLst>
              <a:path w="83" h="357">
                <a:moveTo>
                  <a:pt x="0" y="357"/>
                </a:moveTo>
                <a:lnTo>
                  <a:pt x="0" y="63"/>
                </a:lnTo>
                <a:lnTo>
                  <a:pt x="83" y="0"/>
                </a:lnTo>
                <a:lnTo>
                  <a:pt x="83" y="294"/>
                </a:lnTo>
                <a:lnTo>
                  <a:pt x="0" y="357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720" y="4008600"/>
            <a:ext cx="384480" cy="4665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12720" y="3908520"/>
            <a:ext cx="51624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80600" y="4335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6120" y="38685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9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54440" y="424332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0" y="146"/>
                </a:moveTo>
                <a:lnTo>
                  <a:pt x="0" y="63"/>
                </a:lnTo>
                <a:lnTo>
                  <a:pt x="83" y="0"/>
                </a:lnTo>
                <a:lnTo>
                  <a:pt x="83" y="83"/>
                </a:lnTo>
                <a:lnTo>
                  <a:pt x="0" y="146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0320" y="4343400"/>
            <a:ext cx="384120" cy="1317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70320" y="424332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8560" y="4257720"/>
            <a:ext cx="131760" cy="217440"/>
          </a:xfrm>
          <a:custGeom>
            <a:avLst/>
            <a:gdLst/>
            <a:ahLst/>
            <a:rect l="l" t="t" r="r" b="b"/>
            <a:pathLst>
              <a:path w="83" h="137">
                <a:moveTo>
                  <a:pt x="0" y="137"/>
                </a:moveTo>
                <a:lnTo>
                  <a:pt x="0" y="63"/>
                </a:lnTo>
                <a:lnTo>
                  <a:pt x="83" y="0"/>
                </a:lnTo>
                <a:lnTo>
                  <a:pt x="83" y="74"/>
                </a:lnTo>
                <a:lnTo>
                  <a:pt x="0" y="137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4440" y="4357800"/>
            <a:ext cx="384120" cy="1173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4440" y="425772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94240" y="42037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8360" y="42181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4000" y="2093760"/>
            <a:ext cx="131760" cy="2381400"/>
          </a:xfrm>
          <a:custGeom>
            <a:avLst/>
            <a:gdLst/>
            <a:ahLst/>
            <a:rect l="l" t="t" r="r" b="b"/>
            <a:pathLst>
              <a:path w="83" h="1500">
                <a:moveTo>
                  <a:pt x="0" y="1500"/>
                </a:moveTo>
                <a:lnTo>
                  <a:pt x="0" y="64"/>
                </a:lnTo>
                <a:lnTo>
                  <a:pt x="83" y="0"/>
                </a:lnTo>
                <a:lnTo>
                  <a:pt x="83" y="1437"/>
                </a:lnTo>
                <a:lnTo>
                  <a:pt x="0" y="1500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11680" y="2195640"/>
            <a:ext cx="382320" cy="22795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1680" y="2093760"/>
            <a:ext cx="514080" cy="101880"/>
          </a:xfrm>
          <a:custGeom>
            <a:avLst/>
            <a:gdLst/>
            <a:ahLst/>
            <a:rect l="l" t="t" r="r" b="b"/>
            <a:pathLst>
              <a:path w="324" h="64">
                <a:moveTo>
                  <a:pt x="241" y="64"/>
                </a:moveTo>
                <a:lnTo>
                  <a:pt x="324" y="0"/>
                </a:lnTo>
                <a:lnTo>
                  <a:pt x="83" y="0"/>
                </a:lnTo>
                <a:lnTo>
                  <a:pt x="0" y="64"/>
                </a:lnTo>
                <a:lnTo>
                  <a:pt x="241" y="6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8480" y="2546280"/>
            <a:ext cx="131760" cy="1928880"/>
          </a:xfrm>
          <a:custGeom>
            <a:avLst/>
            <a:gdLst/>
            <a:ahLst/>
            <a:rect l="l" t="t" r="r" b="b"/>
            <a:pathLst>
              <a:path w="83" h="1215">
                <a:moveTo>
                  <a:pt x="0" y="1215"/>
                </a:moveTo>
                <a:lnTo>
                  <a:pt x="0" y="63"/>
                </a:lnTo>
                <a:lnTo>
                  <a:pt x="83" y="0"/>
                </a:lnTo>
                <a:lnTo>
                  <a:pt x="83" y="1152"/>
                </a:lnTo>
                <a:lnTo>
                  <a:pt x="0" y="1215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4000" y="2646360"/>
            <a:ext cx="384480" cy="18288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4000" y="2546280"/>
            <a:ext cx="51624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1240" y="21337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0200" y="2362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44480" y="2136240"/>
            <a:ext cx="1800" cy="241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4880" y="45496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4880" y="4307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04880" y="40672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04880" y="38257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04880" y="35863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04880" y="33415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4880" y="3102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04880" y="2862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04880" y="2620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4880" y="2378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04880" y="2136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240" y="4510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000" y="4267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000" y="40258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0000" y="37861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00" y="35449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0000" y="33019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0000" y="30621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0000" y="28209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0000" y="25812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00" y="23385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0400" y="209700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4480" y="4549680"/>
            <a:ext cx="402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448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584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756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6712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8480" y="4606920"/>
            <a:ext cx="39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81560" y="46069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4606920"/>
            <a:ext cx="29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47280" y="199224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8320" y="199224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9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ality of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2318" h="132">
                <a:moveTo>
                  <a:pt x="0" y="132"/>
                </a:moveTo>
                <a:lnTo>
                  <a:pt x="175" y="0"/>
                </a:lnTo>
                <a:lnTo>
                  <a:pt x="2318" y="0"/>
                </a:lnTo>
                <a:lnTo>
                  <a:pt x="2144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640" y="2039760"/>
            <a:ext cx="277920" cy="2624400"/>
          </a:xfrm>
          <a:custGeom>
            <a:avLst/>
            <a:gdLst/>
            <a:ahLst/>
            <a:rect l="l" t="t" r="r" b="b"/>
            <a:pathLst>
              <a:path w="175" h="1653">
                <a:moveTo>
                  <a:pt x="0" y="1653"/>
                </a:moveTo>
                <a:lnTo>
                  <a:pt x="0" y="132"/>
                </a:lnTo>
                <a:lnTo>
                  <a:pt x="175" y="0"/>
                </a:lnTo>
                <a:lnTo>
                  <a:pt x="175" y="1521"/>
                </a:lnTo>
                <a:lnTo>
                  <a:pt x="0" y="16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8560" y="2039760"/>
            <a:ext cx="3402000" cy="241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90640" y="411012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0640" y="3763800"/>
            <a:ext cx="367992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90640" y="3421080"/>
            <a:ext cx="367992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0640" y="307512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0640" y="2728800"/>
            <a:ext cx="367992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0640" y="238608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90640" y="2039760"/>
            <a:ext cx="3679920" cy="2098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2318" h="132">
                <a:moveTo>
                  <a:pt x="2318" y="0"/>
                </a:moveTo>
                <a:lnTo>
                  <a:pt x="2144" y="132"/>
                </a:lnTo>
                <a:lnTo>
                  <a:pt x="0" y="132"/>
                </a:lnTo>
                <a:lnTo>
                  <a:pt x="175" y="0"/>
                </a:lnTo>
                <a:lnTo>
                  <a:pt x="231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0640" y="2039760"/>
            <a:ext cx="277920" cy="2624400"/>
          </a:xfrm>
          <a:custGeom>
            <a:avLst/>
            <a:gdLst/>
            <a:ahLst/>
            <a:rect l="l" t="t" r="r" b="b"/>
            <a:pathLst>
              <a:path w="175" h="1653">
                <a:moveTo>
                  <a:pt x="0" y="1653"/>
                </a:moveTo>
                <a:lnTo>
                  <a:pt x="0" y="132"/>
                </a:lnTo>
                <a:lnTo>
                  <a:pt x="175" y="0"/>
                </a:lnTo>
                <a:lnTo>
                  <a:pt x="175" y="1521"/>
                </a:lnTo>
                <a:lnTo>
                  <a:pt x="0" y="1653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68560" y="2039760"/>
            <a:ext cx="3402000" cy="24148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41520" y="3174840"/>
            <a:ext cx="111240" cy="1425600"/>
          </a:xfrm>
          <a:custGeom>
            <a:avLst/>
            <a:gdLst/>
            <a:ahLst/>
            <a:rect l="l" t="t" r="r" b="b"/>
            <a:pathLst>
              <a:path w="70" h="898">
                <a:moveTo>
                  <a:pt x="0" y="898"/>
                </a:moveTo>
                <a:lnTo>
                  <a:pt x="0" y="54"/>
                </a:lnTo>
                <a:lnTo>
                  <a:pt x="70" y="0"/>
                </a:lnTo>
                <a:lnTo>
                  <a:pt x="70" y="846"/>
                </a:lnTo>
                <a:lnTo>
                  <a:pt x="0" y="898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7520" y="3260880"/>
            <a:ext cx="324000" cy="1339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7520" y="3174840"/>
            <a:ext cx="435240" cy="8604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8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63720" y="3514680"/>
            <a:ext cx="112680" cy="1085760"/>
          </a:xfrm>
          <a:custGeom>
            <a:avLst/>
            <a:gdLst/>
            <a:ahLst/>
            <a:rect l="l" t="t" r="r" b="b"/>
            <a:pathLst>
              <a:path w="71" h="684">
                <a:moveTo>
                  <a:pt x="0" y="684"/>
                </a:moveTo>
                <a:lnTo>
                  <a:pt x="0" y="54"/>
                </a:lnTo>
                <a:lnTo>
                  <a:pt x="71" y="0"/>
                </a:lnTo>
                <a:lnTo>
                  <a:pt x="71" y="632"/>
                </a:lnTo>
                <a:lnTo>
                  <a:pt x="0" y="684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41520" y="3600360"/>
            <a:ext cx="322200" cy="10000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41520" y="3514680"/>
            <a:ext cx="434880" cy="8568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3" y="54"/>
                </a:moveTo>
                <a:lnTo>
                  <a:pt x="274" y="0"/>
                </a:lnTo>
                <a:lnTo>
                  <a:pt x="70" y="0"/>
                </a:lnTo>
                <a:lnTo>
                  <a:pt x="0" y="54"/>
                </a:lnTo>
                <a:lnTo>
                  <a:pt x="203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52160" y="3013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4360" y="33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76600" y="4038480"/>
            <a:ext cx="109440" cy="561960"/>
          </a:xfrm>
          <a:custGeom>
            <a:avLst/>
            <a:gdLst/>
            <a:ahLst/>
            <a:rect l="l" t="t" r="r" b="b"/>
            <a:pathLst>
              <a:path w="69" h="354">
                <a:moveTo>
                  <a:pt x="0" y="354"/>
                </a:moveTo>
                <a:lnTo>
                  <a:pt x="0" y="52"/>
                </a:lnTo>
                <a:lnTo>
                  <a:pt x="69" y="0"/>
                </a:lnTo>
                <a:lnTo>
                  <a:pt x="69" y="302"/>
                </a:lnTo>
                <a:lnTo>
                  <a:pt x="0" y="35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51160" y="4121280"/>
            <a:ext cx="325440" cy="4791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51160" y="4038480"/>
            <a:ext cx="43488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5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5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00240" y="4238640"/>
            <a:ext cx="111240" cy="361800"/>
          </a:xfrm>
          <a:custGeom>
            <a:avLst/>
            <a:gdLst/>
            <a:ahLst/>
            <a:rect l="l" t="t" r="r" b="b"/>
            <a:pathLst>
              <a:path w="70" h="228">
                <a:moveTo>
                  <a:pt x="0" y="228"/>
                </a:moveTo>
                <a:lnTo>
                  <a:pt x="0" y="54"/>
                </a:lnTo>
                <a:lnTo>
                  <a:pt x="70" y="0"/>
                </a:lnTo>
                <a:lnTo>
                  <a:pt x="70" y="176"/>
                </a:lnTo>
                <a:lnTo>
                  <a:pt x="0" y="228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76600" y="4324320"/>
            <a:ext cx="323640" cy="27612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76600" y="4238640"/>
            <a:ext cx="434880" cy="8568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9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87240" y="38750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2120" y="40752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2889360"/>
            <a:ext cx="111240" cy="1711080"/>
          </a:xfrm>
          <a:custGeom>
            <a:avLst/>
            <a:gdLst/>
            <a:ahLst/>
            <a:rect l="l" t="t" r="r" b="b"/>
            <a:pathLst>
              <a:path w="70" h="1078">
                <a:moveTo>
                  <a:pt x="0" y="1078"/>
                </a:moveTo>
                <a:lnTo>
                  <a:pt x="0" y="52"/>
                </a:lnTo>
                <a:lnTo>
                  <a:pt x="70" y="0"/>
                </a:lnTo>
                <a:lnTo>
                  <a:pt x="70" y="1026"/>
                </a:lnTo>
                <a:lnTo>
                  <a:pt x="0" y="1078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6240" y="2971800"/>
            <a:ext cx="323640" cy="16286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6240" y="2889360"/>
            <a:ext cx="43488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4" y="52"/>
                </a:moveTo>
                <a:lnTo>
                  <a:pt x="274" y="0"/>
                </a:lnTo>
                <a:lnTo>
                  <a:pt x="71" y="0"/>
                </a:lnTo>
                <a:lnTo>
                  <a:pt x="0" y="52"/>
                </a:lnTo>
                <a:lnTo>
                  <a:pt x="204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35320" y="2349360"/>
            <a:ext cx="109800" cy="2251080"/>
          </a:xfrm>
          <a:custGeom>
            <a:avLst/>
            <a:gdLst/>
            <a:ahLst/>
            <a:rect l="l" t="t" r="r" b="b"/>
            <a:pathLst>
              <a:path w="69" h="1418">
                <a:moveTo>
                  <a:pt x="0" y="1418"/>
                </a:moveTo>
                <a:lnTo>
                  <a:pt x="0" y="52"/>
                </a:lnTo>
                <a:lnTo>
                  <a:pt x="69" y="0"/>
                </a:lnTo>
                <a:lnTo>
                  <a:pt x="69" y="1366"/>
                </a:lnTo>
                <a:lnTo>
                  <a:pt x="0" y="1418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2160"/>
            <a:ext cx="325440" cy="21682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349360"/>
            <a:ext cx="43524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5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5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20520" y="27273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47760" y="21859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90640" y="2249280"/>
            <a:ext cx="1440" cy="24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51040" y="4664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51040" y="43178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51040" y="3975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1040" y="3629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51040" y="32828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51040" y="2940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851040" y="2593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1040" y="2249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4760" y="4611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240" y="4267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7240" y="39243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" y="357840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7240" y="3232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28893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254304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7240" y="2197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0640" y="4664160"/>
            <a:ext cx="3403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0640" y="46641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23920" y="4664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60800" y="46641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94080" y="4664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7480" y="472608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83560" y="4726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6320" y="472608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8960" y="4952880"/>
            <a:ext cx="179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or Design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2321" h="132">
                <a:moveTo>
                  <a:pt x="0" y="132"/>
                </a:moveTo>
                <a:lnTo>
                  <a:pt x="175" y="0"/>
                </a:lnTo>
                <a:lnTo>
                  <a:pt x="2321" y="0"/>
                </a:lnTo>
                <a:lnTo>
                  <a:pt x="214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22760" y="2041560"/>
            <a:ext cx="277920" cy="2627280"/>
          </a:xfrm>
          <a:custGeom>
            <a:avLst/>
            <a:gdLst/>
            <a:ahLst/>
            <a:rect l="l" t="t" r="r" b="b"/>
            <a:pathLst>
              <a:path w="175" h="1655">
                <a:moveTo>
                  <a:pt x="0" y="1655"/>
                </a:moveTo>
                <a:lnTo>
                  <a:pt x="0" y="131"/>
                </a:lnTo>
                <a:lnTo>
                  <a:pt x="175" y="0"/>
                </a:lnTo>
                <a:lnTo>
                  <a:pt x="175" y="1523"/>
                </a:lnTo>
                <a:lnTo>
                  <a:pt x="0" y="16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00680" y="2041560"/>
            <a:ext cx="3406680" cy="241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2760" y="4113360"/>
            <a:ext cx="368460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22760" y="3767040"/>
            <a:ext cx="368460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22760" y="342252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22760" y="307656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22760" y="2730600"/>
            <a:ext cx="3684600" cy="21096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2760" y="2387520"/>
            <a:ext cx="368460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2760" y="2041560"/>
            <a:ext cx="368460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2321" h="132">
                <a:moveTo>
                  <a:pt x="2321" y="0"/>
                </a:moveTo>
                <a:lnTo>
                  <a:pt x="2146" y="132"/>
                </a:lnTo>
                <a:lnTo>
                  <a:pt x="0" y="132"/>
                </a:lnTo>
                <a:lnTo>
                  <a:pt x="175" y="0"/>
                </a:lnTo>
                <a:lnTo>
                  <a:pt x="232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2760" y="2041560"/>
            <a:ext cx="277920" cy="2627280"/>
          </a:xfrm>
          <a:custGeom>
            <a:avLst/>
            <a:gdLst/>
            <a:ahLst/>
            <a:rect l="l" t="t" r="r" b="b"/>
            <a:pathLst>
              <a:path w="175" h="1655">
                <a:moveTo>
                  <a:pt x="0" y="1655"/>
                </a:moveTo>
                <a:lnTo>
                  <a:pt x="0" y="131"/>
                </a:lnTo>
                <a:lnTo>
                  <a:pt x="175" y="0"/>
                </a:lnTo>
                <a:lnTo>
                  <a:pt x="175" y="1523"/>
                </a:lnTo>
                <a:lnTo>
                  <a:pt x="0" y="1655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00680" y="2041560"/>
            <a:ext cx="3406680" cy="24177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3640" y="2217600"/>
            <a:ext cx="111240" cy="2387880"/>
          </a:xfrm>
          <a:custGeom>
            <a:avLst/>
            <a:gdLst/>
            <a:ahLst/>
            <a:rect l="l" t="t" r="r" b="b"/>
            <a:pathLst>
              <a:path w="70" h="1504">
                <a:moveTo>
                  <a:pt x="0" y="1504"/>
                </a:moveTo>
                <a:lnTo>
                  <a:pt x="0" y="54"/>
                </a:lnTo>
                <a:lnTo>
                  <a:pt x="70" y="0"/>
                </a:lnTo>
                <a:lnTo>
                  <a:pt x="70" y="1452"/>
                </a:lnTo>
                <a:lnTo>
                  <a:pt x="0" y="150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0000" y="2303640"/>
            <a:ext cx="323640" cy="23018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0000" y="2217600"/>
            <a:ext cx="434880" cy="8604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8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96200" y="2851200"/>
            <a:ext cx="112680" cy="1754280"/>
          </a:xfrm>
          <a:custGeom>
            <a:avLst/>
            <a:gdLst/>
            <a:ahLst/>
            <a:rect l="l" t="t" r="r" b="b"/>
            <a:pathLst>
              <a:path w="71" h="1105">
                <a:moveTo>
                  <a:pt x="0" y="1105"/>
                </a:moveTo>
                <a:lnTo>
                  <a:pt x="0" y="52"/>
                </a:lnTo>
                <a:lnTo>
                  <a:pt x="71" y="0"/>
                </a:lnTo>
                <a:lnTo>
                  <a:pt x="71" y="1053"/>
                </a:lnTo>
                <a:lnTo>
                  <a:pt x="0" y="1105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3640" y="2933640"/>
            <a:ext cx="322560" cy="16718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3640" y="2851200"/>
            <a:ext cx="43524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3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3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0520" y="3946680"/>
            <a:ext cx="109440" cy="658800"/>
          </a:xfrm>
          <a:custGeom>
            <a:avLst/>
            <a:gdLst/>
            <a:ahLst/>
            <a:rect l="l" t="t" r="r" b="b"/>
            <a:pathLst>
              <a:path w="69" h="415">
                <a:moveTo>
                  <a:pt x="0" y="415"/>
                </a:moveTo>
                <a:lnTo>
                  <a:pt x="0" y="53"/>
                </a:lnTo>
                <a:lnTo>
                  <a:pt x="69" y="0"/>
                </a:lnTo>
                <a:lnTo>
                  <a:pt x="69" y="363"/>
                </a:lnTo>
                <a:lnTo>
                  <a:pt x="0" y="415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83280" y="4030560"/>
            <a:ext cx="327240" cy="5749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83280" y="3946680"/>
            <a:ext cx="436680" cy="83880"/>
          </a:xfrm>
          <a:custGeom>
            <a:avLst/>
            <a:gdLst/>
            <a:ahLst/>
            <a:rect l="l" t="t" r="r" b="b"/>
            <a:pathLst>
              <a:path w="275" h="53">
                <a:moveTo>
                  <a:pt x="206" y="53"/>
                </a:moveTo>
                <a:lnTo>
                  <a:pt x="275" y="0"/>
                </a:lnTo>
                <a:lnTo>
                  <a:pt x="71" y="0"/>
                </a:lnTo>
                <a:lnTo>
                  <a:pt x="0" y="53"/>
                </a:lnTo>
                <a:lnTo>
                  <a:pt x="206" y="5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34160" y="3575160"/>
            <a:ext cx="111240" cy="1030320"/>
          </a:xfrm>
          <a:custGeom>
            <a:avLst/>
            <a:gdLst/>
            <a:ahLst/>
            <a:rect l="l" t="t" r="r" b="b"/>
            <a:pathLst>
              <a:path w="70" h="649">
                <a:moveTo>
                  <a:pt x="0" y="649"/>
                </a:moveTo>
                <a:lnTo>
                  <a:pt x="0" y="52"/>
                </a:lnTo>
                <a:lnTo>
                  <a:pt x="70" y="0"/>
                </a:lnTo>
                <a:lnTo>
                  <a:pt x="70" y="597"/>
                </a:lnTo>
                <a:lnTo>
                  <a:pt x="0" y="649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0520" y="3657600"/>
            <a:ext cx="323640" cy="9478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0520" y="3575160"/>
            <a:ext cx="43488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4" y="52"/>
                </a:moveTo>
                <a:lnTo>
                  <a:pt x="274" y="0"/>
                </a:lnTo>
                <a:lnTo>
                  <a:pt x="69" y="0"/>
                </a:lnTo>
                <a:lnTo>
                  <a:pt x="0" y="52"/>
                </a:lnTo>
                <a:lnTo>
                  <a:pt x="204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5600" y="3946680"/>
            <a:ext cx="110880" cy="658800"/>
          </a:xfrm>
          <a:custGeom>
            <a:avLst/>
            <a:gdLst/>
            <a:ahLst/>
            <a:rect l="l" t="t" r="r" b="b"/>
            <a:pathLst>
              <a:path w="70" h="415">
                <a:moveTo>
                  <a:pt x="0" y="415"/>
                </a:moveTo>
                <a:lnTo>
                  <a:pt x="0" y="53"/>
                </a:lnTo>
                <a:lnTo>
                  <a:pt x="70" y="0"/>
                </a:lnTo>
                <a:lnTo>
                  <a:pt x="70" y="363"/>
                </a:lnTo>
                <a:lnTo>
                  <a:pt x="0" y="415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21600" y="4030560"/>
            <a:ext cx="324000" cy="5749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21600" y="3946680"/>
            <a:ext cx="434880" cy="83880"/>
          </a:xfrm>
          <a:custGeom>
            <a:avLst/>
            <a:gdLst/>
            <a:ahLst/>
            <a:rect l="l" t="t" r="r" b="b"/>
            <a:pathLst>
              <a:path w="274" h="53">
                <a:moveTo>
                  <a:pt x="204" y="53"/>
                </a:moveTo>
                <a:lnTo>
                  <a:pt x="274" y="0"/>
                </a:lnTo>
                <a:lnTo>
                  <a:pt x="70" y="0"/>
                </a:lnTo>
                <a:lnTo>
                  <a:pt x="0" y="53"/>
                </a:lnTo>
                <a:lnTo>
                  <a:pt x="204" y="5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772480" y="3686040"/>
            <a:ext cx="108000" cy="919440"/>
          </a:xfrm>
          <a:custGeom>
            <a:avLst/>
            <a:gdLst/>
            <a:ahLst/>
            <a:rect l="l" t="t" r="r" b="b"/>
            <a:pathLst>
              <a:path w="68" h="579">
                <a:moveTo>
                  <a:pt x="0" y="579"/>
                </a:moveTo>
                <a:lnTo>
                  <a:pt x="0" y="52"/>
                </a:lnTo>
                <a:lnTo>
                  <a:pt x="68" y="0"/>
                </a:lnTo>
                <a:lnTo>
                  <a:pt x="68" y="527"/>
                </a:lnTo>
                <a:lnTo>
                  <a:pt x="0" y="579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45600" y="3768840"/>
            <a:ext cx="326880" cy="8366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45600" y="3686040"/>
            <a:ext cx="43488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6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6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522760" y="2249640"/>
            <a:ext cx="1800" cy="241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483160" y="4668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83160" y="43210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483160" y="3978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83160" y="36320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83160" y="32860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83160" y="29415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483160" y="25956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483160" y="2249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8120" y="462744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48520" y="42814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48520" y="39387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8520" y="35924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48520" y="32464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48520" y="29019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8520" y="25560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48520" y="22096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22760" y="4668840"/>
            <a:ext cx="3407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22760" y="4668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7840" y="4668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94720" y="4668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29800" y="4668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1400" y="47307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9280" y="473076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2040" y="4730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69920" y="495288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or Cost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nagement an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partnering projects, significantly more companies reported using innovative management and producti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are not necessarily the drivers for innovation with only 36% of partnering companies reporting active encouragement from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5% of all partnering project respondents reported that innovation occurred as a result of people working together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T 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9680" y="2049480"/>
            <a:ext cx="4024080" cy="2725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9680" y="443376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49680" y="40942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9680" y="375300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9680" y="341136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9680" y="30718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9680" y="273060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9680" y="239076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9680" y="20494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9680" y="2049480"/>
            <a:ext cx="4024080" cy="27255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2803680"/>
            <a:ext cx="384480" cy="19713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8320" y="4686480"/>
            <a:ext cx="382680" cy="88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6440" y="3430440"/>
            <a:ext cx="384480" cy="13446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19640" y="2192400"/>
            <a:ext cx="382320" cy="25826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61000" y="4500720"/>
            <a:ext cx="380880" cy="27432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00920" y="4224240"/>
            <a:ext cx="384120" cy="5508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9680" y="2049480"/>
            <a:ext cx="1440" cy="27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4120" y="477504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24120" y="443376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24120" y="40942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24120" y="37530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24120" y="341136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24120" y="30718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4120" y="27306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24120" y="239076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24120" y="20494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9680" y="477504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74968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09104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3096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773760" y="4774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7400" y="47322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54560" y="43909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54560" y="40514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54560" y="37101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54560" y="33703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4560" y="30290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54560" y="26892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560" y="23479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54560" y="20080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6400" y="48531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68040" y="485316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77080" y="48531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18:09:14Z</dcterms:created>
  <dc:creator>Stuart Carmichael</dc:creator>
  <dc:description/>
  <dc:language>en-US</dc:language>
  <cp:lastModifiedBy>Stu Carrmichael</cp:lastModifiedBy>
  <cp:lastPrinted>1998-02-25T18:33:12Z</cp:lastPrinted>
  <dcterms:modified xsi:type="dcterms:W3CDTF">1998-02-25T18:35:28Z</dcterms:modified>
  <cp:revision>64</cp:revision>
  <dc:subject/>
  <dc:title>Aims of Survey</dc:title>
</cp:coreProperties>
</file>