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F8822-D814-41C1-BC17-07906965D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2680" y="4010760"/>
            <a:ext cx="8420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DECEB-DB2B-4935-8CAA-23D34EFE3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2680" y="401076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7280" y="401076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0D25B-23BA-4503-B24B-0B7BC92A1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2680" y="401076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89920" y="401076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36800" y="4010760"/>
            <a:ext cx="271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0BE28-34A5-45E6-80A0-18B847D963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CA530-3958-4F0E-AACF-F0D9DBFAF1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DA4B9-4D30-4C6B-B7F1-6D0F6CC5A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5D3CA-E63D-478C-9CCB-E77E4D781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B2C8C-8FF1-41E4-890A-180E4240D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A37A9-51F3-426D-847E-B8B62A629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2680" y="401076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2794B-77D1-4B6A-A92F-993D09F5E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7280" y="401076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8E68C-E432-4FA4-B4EF-63C0EBD5A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2680" y="4010760"/>
            <a:ext cx="8420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EDE7E-7A07-4B63-80E4-C2215AA11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480" y="6019920"/>
            <a:ext cx="577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.Cooper, S.Carmichael, University of Sal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98840" y="60199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EE4D-C0E5-436B-877B-7D2836DA3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Adversaries or Partne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85720" y="20574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Developing Best Practice Guidelines for Partnering in 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Professor R. Coo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S. Carmicha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University of Salf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Aims of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analyse the design and operation of partnership arrangements in the design and construction process and to identify criteria upon which successful partnering between clients and contractors is 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identify benefits of partnering compared to more traditional non-collaborative proc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develop a set of Best Practice Guidelines for the development and operation of Partnering arrangements in 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Resea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se studies of manufacturing companies regarding their approach to and experiences of partn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se studies with major contractors, clients and supplier organis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stionnaire surv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aring partnering and non partnering projects in the construction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evelopment of a Partnering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Questionn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ny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ategy &amp;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alit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rational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les &amp;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titudes on Partn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uidelines developed to illustrate the key issues for a more rigorous development of long term agreements which effectively integrate strategic and operationa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 processes have been developed, strategic and project specific, which suggest key stages and steps in setting up, developing and managing client - contractor partnering arran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deo production and final academic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Less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ion partnering not as rigorously planned, developed or implemented as in manufacturing s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ch as the automotiv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ffective Partnering requires cultural changes in individual companies as well as to the overall project orga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ment of both procedures and processes are required at all levels in order to accommodate partnering and maintain continuous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320" y="5334120"/>
            <a:ext cx="869328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search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7T18:09:14Z</dcterms:created>
  <dc:creator>S Carmichael</dc:creator>
  <dc:description/>
  <dc:language>en-US</dc:language>
  <cp:lastModifiedBy>Keith Pickavance</cp:lastModifiedBy>
  <cp:lastPrinted>1998-07-06T23:41:56Z</cp:lastPrinted>
  <dcterms:modified xsi:type="dcterms:W3CDTF">2002-04-30T08:01:01Z</dcterms:modified>
  <cp:revision>75</cp:revision>
  <dc:subject/>
  <dc:title>Aims of Survey</dc:title>
</cp:coreProperties>
</file>