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328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EBF-38A3-4137-9C92-95B389E5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E57-EA9A-49A4-9C4B-2C85B751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ABC-0C22-4FE5-9C62-D3B213C5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E84-6E90-4858-B218-0AB8AD2C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1A1A-29F7-4977-A9AD-479010B4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7996-DCA2-42F9-A085-E08DF9D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9E79-83EA-4BF4-9EE9-CA5E92F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F33-50A4-4FD0-9484-46C4697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E0D6-39D7-47B6-BB1F-6AAE0E06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75960"/>
            <a:ext cx="7772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A3AE-6D72-44D2-97F6-4CE073B1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6527-6E81-4660-8C85-0E67334D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881-98D4-4D2B-AE49-5041CB9D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2E04-5A51-4D61-9E09-B700275B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314B-8348-4DF1-B193-4E13EF10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8EB7-DA06-4441-AA78-B9C024F7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28BB-5E1B-4FBD-9157-15B322F4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9A70-6C2F-4B85-81A5-C641CF95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539-62DF-4557-80CB-615D56FE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4D4-56BB-4249-98A1-CFA681FC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BE3-05A7-4158-B01B-D494C5BE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75960"/>
            <a:ext cx="7772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BBB-9E68-4FBC-8E23-45BAADF7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4E8-6742-4A01-8AA1-F49EA895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045-8562-47C8-BB5D-4DA5653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C4E-A5ED-41BE-8AC0-F133B27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7505-B041-42F5-A215-C35444EFD6A2}" type="slidenum">
              <a:rPr b="0" lang="pt-P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ED34-EF4F-4CD2-A006-C27BFFBFAF96}" type="slidenum">
              <a:rPr b="0" lang="pt-P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5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Construction and Demolition Waste Stream Dynamic Model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t-PT" sz="2000" spc="-1" strike="noStrike">
                <a:solidFill>
                  <a:srgbClr val="000000"/>
                </a:solidFill>
                <a:latin typeface="Arial Black"/>
              </a:rPr>
              <a:t>Manuel F. Marques Inácio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Faculty of Sciences, Engineering and Environmen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University of Salford, U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 Black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Target Scenario 1 (from Strategy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Target Scenario 2 (Real Situatio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591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Target Scenario 3</a:t>
            </a:r>
            <a:br>
              <a:rPr sz="4000"/>
            </a:br>
            <a:r>
              <a:rPr b="0" lang="pt-PT" sz="2000" spc="-1" strike="noStrike">
                <a:solidFill>
                  <a:srgbClr val="000000"/>
                </a:solidFill>
                <a:latin typeface="Arial Black"/>
              </a:rPr>
              <a:t>(Forecast 50% to 2005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2257560"/>
            <a:ext cx="45338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Policy and Institutional Factors Multiplyer </a:t>
            </a:r>
            <a:r>
              <a:rPr b="0" lang="pt-PT" sz="2400" spc="-1" strike="noStrike">
                <a:solidFill>
                  <a:srgbClr val="000000"/>
                </a:solidFill>
                <a:latin typeface="Arial Black"/>
              </a:rPr>
              <a:t>(ex. Sc 2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52480" y="2286000"/>
          <a:ext cx="594360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5943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Attitude and Behaviour Multiplyer </a:t>
            </a: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(ex. Sc 2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86440" y="2514600"/>
          <a:ext cx="390528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6440" y="2514600"/>
                    <a:ext cx="39052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387648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04920" y="1828800"/>
            <a:ext cx="419076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8320" y="1905120"/>
            <a:ext cx="4171680" cy="561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4920" y="4648320"/>
            <a:ext cx="2819160" cy="1866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6172200" y="4619520"/>
            <a:ext cx="2838600" cy="1933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200400" y="45720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 Black"/>
              </a:rPr>
              <a:t>Total Construction and Demolition Waste (Type 1,2,3,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28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356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Total Construction and Demolition Waste</a:t>
            </a:r>
            <a:br>
              <a:rPr sz="4000"/>
            </a:br>
            <a:r>
              <a:rPr b="0" lang="pt-PT" sz="2000" spc="-1" strike="noStrike">
                <a:solidFill>
                  <a:srgbClr val="000000"/>
                </a:solidFill>
                <a:latin typeface="Arial Black"/>
              </a:rPr>
              <a:t>(Sub-Types from Type 1,2,3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667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000000"/>
                </a:solidFill>
                <a:latin typeface="Arial Black"/>
              </a:rPr>
              <a:t>Construction and Demolition Waste to landfill from 1999 to the year 2005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2438280"/>
          <a:ext cx="749772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4977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800" spc="-1" strike="noStrike">
                <a:solidFill>
                  <a:srgbClr val="000000"/>
                </a:solidFill>
                <a:latin typeface="Arial Black"/>
              </a:rPr>
              <a:t>Construction and Demolition waste recycling. Forecast from 1999 to the year 2005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2438280"/>
          <a:ext cx="8012160" cy="41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801216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356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 Black"/>
              </a:rPr>
              <a:t>Total Construction and Demolition Waste</a:t>
            </a: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pt-PT" sz="2000" spc="-1" strike="noStrike">
                <a:solidFill>
                  <a:srgbClr val="000000"/>
                </a:solidFill>
                <a:latin typeface="Arial Black"/>
              </a:rPr>
              <a:t>(Sub-Types from Type 1,2,3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631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676520"/>
            <a:ext cx="3048120" cy="5181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676520"/>
            <a:ext cx="3048120" cy="518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Causal Loop Diag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676520"/>
            <a:ext cx="0" cy="4572000"/>
          </a:xfrm>
          <a:prstGeom prst="line">
            <a:avLst/>
          </a:prstGeom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1852560"/>
            <a:ext cx="62485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Population Growt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622520"/>
            <a:ext cx="65534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 Black"/>
              </a:rPr>
              <a:t>Total Construction and Demolition Waste Produ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00200" y="1828800"/>
          <a:ext cx="59626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626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 Black"/>
              </a:rPr>
              <a:t>Type of Construction and Demolition Was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676520"/>
          <a:ext cx="647208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47208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 Black"/>
              </a:rPr>
              <a:t>Sub-Type of Construction and Demolition Waste (1,2,3)</a:t>
            </a: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3117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Dynamics of Type of Waste by Source </a:t>
            </a:r>
            <a:r>
              <a:rPr b="0" lang="pt-PT" sz="2400" spc="-1" strike="noStrike">
                <a:solidFill>
                  <a:srgbClr val="000000"/>
                </a:solidFill>
                <a:latin typeface="Arial Black"/>
              </a:rPr>
              <a:t>(ex. to Type 1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7920" y="1784520"/>
            <a:ext cx="54864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Portuguese Municipal Solid Waste Strategy </a:t>
            </a:r>
            <a:br>
              <a:rPr sz="4000"/>
            </a:br>
            <a:r>
              <a:rPr b="0" lang="pt-PT" sz="2000" spc="-1" strike="noStrike">
                <a:solidFill>
                  <a:srgbClr val="000000"/>
                </a:solidFill>
                <a:latin typeface="Arial Black"/>
              </a:rPr>
              <a:t>Goals and Targe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971800" y="1981080"/>
          <a:ext cx="3565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3565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791320" y="2438280"/>
            <a:ext cx="1066680" cy="379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Composting + Anaerobic Dige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Inci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Confin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Sanitary Landf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220968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Ton/y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981080"/>
            <a:ext cx="83808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Quantifi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Targ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19810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3429000"/>
            <a:ext cx="1066680" cy="201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Compost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Sanitary Landf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Uncontrolled Dum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6095880"/>
            <a:ext cx="8380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60958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2971800"/>
            <a:ext cx="1752840" cy="380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8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pt-PT" sz="4000" spc="-1" strike="noStrike">
                <a:solidFill>
                  <a:srgbClr val="000000"/>
                </a:solidFill>
                <a:latin typeface="Arial Black"/>
              </a:rPr>
              <a:t>Target Scenarios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78152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809880" cy="301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019840" y="4724280"/>
          <a:ext cx="282888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9840" y="4724280"/>
                    <a:ext cx="2828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6:16:22Z</dcterms:created>
  <dc:creator>INR</dc:creator>
  <dc:description/>
  <dc:language>en-US</dc:language>
  <cp:lastModifiedBy>INR</cp:lastModifiedBy>
  <cp:lastPrinted>1999-11-14T18:31:40Z</cp:lastPrinted>
  <dcterms:modified xsi:type="dcterms:W3CDTF">1999-11-14T18:37:40Z</dcterms:modified>
  <cp:revision>21</cp:revision>
  <dc:subject/>
  <dc:title>Construction and Demolition Dynamic Model</dc:title>
</cp:coreProperties>
</file>